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2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2" name="Picture 31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9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8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5" name="Rectangle 11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7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10" name="Rectangle 18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0"/>
          <p:cNvGrpSpPr/>
          <p:nvPr/>
        </p:nvGrpSpPr>
        <p:grpSpPr>
          <a:xfrm>
            <a:off x="71280" y="1214280"/>
            <a:ext cx="952560" cy="4571640"/>
            <a:chOff x="71280" y="1214280"/>
            <a:chExt cx="952560" cy="4571640"/>
          </a:xfrm>
        </p:grpSpPr>
        <p:pic>
          <p:nvPicPr>
            <p:cNvPr id="13" name="Picture 21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214280"/>
              <a:ext cx="952560" cy="732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4" name="Picture 22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174040"/>
              <a:ext cx="952560" cy="732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" name="Picture 23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133080"/>
              <a:ext cx="952560" cy="732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6" name="Picture 24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053320"/>
              <a:ext cx="952560" cy="732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" name="Picture 25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093200"/>
              <a:ext cx="952560" cy="732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8" name="Picture 27" descr="бревно"/>
          <p:cNvPicPr/>
          <p:nvPr/>
        </p:nvPicPr>
        <p:blipFill>
          <a:blip r:embed="rId9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1" descr="ISO 9001"/>
          <p:cNvPicPr/>
          <p:nvPr/>
        </p:nvPicPr>
        <p:blipFill>
          <a:blip r:embed="rId10"/>
          <a:stretch/>
        </p:blipFill>
        <p:spPr>
          <a:xfrm>
            <a:off x="0" y="5776920"/>
            <a:ext cx="1703520" cy="809640"/>
          </a:xfrm>
          <a:prstGeom prst="rect">
            <a:avLst/>
          </a:prstGeom>
          <a:ln w="0">
            <a:noFill/>
          </a:ln>
        </p:spPr>
      </p:pic>
      <p:sp>
        <p:nvSpPr>
          <p:cNvPr id="20" name="TextBox 22"/>
          <p:cNvSpPr/>
          <p:nvPr/>
        </p:nvSpPr>
        <p:spPr>
          <a:xfrm>
            <a:off x="0" y="6429240"/>
            <a:ext cx="200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МК компании соответствует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"/>
          <p:cNvSpPr/>
          <p:nvPr/>
        </p:nvSpPr>
        <p:spPr>
          <a:xfrm>
            <a:off x="7164360" y="620640"/>
            <a:ext cx="1979640" cy="2087640"/>
          </a:xfrm>
          <a:prstGeom prst="rect">
            <a:avLst/>
          </a:prstGeom>
          <a:gradFill rotWithShape="0">
            <a:gsLst>
              <a:gs pos="0">
                <a:srgbClr val="fae6c8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25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60" name="Picture 126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7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42"/>
          <p:cNvSpPr/>
          <p:nvPr/>
        </p:nvSpPr>
        <p:spPr>
          <a:xfrm>
            <a:off x="7164360" y="2637000"/>
            <a:ext cx="1979640" cy="388764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14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64" name="Rectangle 115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6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71280" y="1413000"/>
            <a:ext cx="952560" cy="4459320"/>
            <a:chOff x="71280" y="1413000"/>
            <a:chExt cx="952560" cy="4459320"/>
          </a:xfrm>
        </p:grpSpPr>
        <p:pic>
          <p:nvPicPr>
            <p:cNvPr id="69" name="Picture 13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41300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0" name="Picture 14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34936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1" name="Picture 15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28464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2" name="Picture 16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15772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3" name="Picture 17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22100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74" name="Picture 18" descr="ISO 9001"/>
          <p:cNvPicPr/>
          <p:nvPr/>
        </p:nvPicPr>
        <p:blipFill>
          <a:blip r:embed="rId9"/>
          <a:stretch/>
        </p:blipFill>
        <p:spPr>
          <a:xfrm>
            <a:off x="0" y="5977080"/>
            <a:ext cx="1857240" cy="880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18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76" name="Rectangle 119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20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9" descr="бревно"/>
          <p:cNvPicPr/>
          <p:nvPr/>
        </p:nvPicPr>
        <p:blipFill>
          <a:blip r:embed="rId10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428840" y="2428920"/>
            <a:ext cx="7343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Программный продукт</a:t>
            </a: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НЕОСИСТЕМЫ: ЛЕСОЗАВОД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Решение для организации оперативного учета на лесопильном и деревообрабатывающем предпри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1908000" y="3657600"/>
            <a:ext cx="7236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контрольному за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Для приемки единицы транспорта с определением характеристик пиловочника в соответствии с произведенным ранее контрольным замером используется документ «Приходный ордер на товары» с видом операции «Приемка по контрольному замеру». На закладке «Приемка» указывается пиловочник для распределения, на закладке «Контрольный замер» – документ контрольного зам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143480" cy="3744720"/>
          </a:xfrm>
          <a:prstGeom prst="rect">
            <a:avLst/>
          </a:prstGeom>
          <a:ln w="0">
            <a:noFill/>
          </a:ln>
        </p:spPr>
      </p:pic>
      <p:sp>
        <p:nvSpPr>
          <p:cNvPr id="191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контрольному за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 закладке «Товары» автоматически рассчитываются характеристики и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объем пиловочника в соответствии с базой распределения по контрольному заме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571760" y="1857240"/>
            <a:ext cx="7240320" cy="40006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геометрическому об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условиям договора с «Медвежегорским леспромхозом» пиловочник принимается к учету (на ответственное хранение) по данным геометрического обмера единицы транспорта по ГОСТ. При этом допускается поштучная выбраковка пилов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 закладке «Геометрический обмер» указываются геометрические параметры и коэффициент полнодрев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072200" cy="3673440"/>
          </a:xfrm>
          <a:prstGeom prst="rect">
            <a:avLst/>
          </a:prstGeom>
          <a:ln w="0">
            <a:noFill/>
          </a:ln>
        </p:spPr>
      </p:pic>
      <p:sp>
        <p:nvSpPr>
          <p:cNvPr id="199" name="Скругленный прямоугольник 5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геометрическому об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 закладке «Отбраковка» указывается выбракованный пиловочн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казывается из какой номенклатурной позиции произошла выбрак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казывается как выбракованный пиловочник будет принят к уче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215120" cy="3819240"/>
          </a:xfrm>
          <a:prstGeom prst="rect">
            <a:avLst/>
          </a:prstGeom>
          <a:ln w="0">
            <a:noFill/>
          </a:ln>
        </p:spPr>
      </p:pic>
      <p:sp>
        <p:nvSpPr>
          <p:cNvPr id="203" name="Скругленный прямоугольник 4"/>
          <p:cNvSpPr/>
          <p:nvPr/>
        </p:nvSpPr>
        <p:spPr>
          <a:xfrm>
            <a:off x="7643880" y="357120"/>
            <a:ext cx="135720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геометрическому об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 закладке «Товары» автоматически рассчитывается состав принимаемого к учету пиловочника (характеристики и объем с учетом выбрак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и этом пиловочник принимается на ответственное хранение. Переход права собственности и принятие к бухгалтерскому учету произойдет после сортировки</a:t>
            </a:r>
            <a:r>
              <a:rPr b="0" lang="ru-RU" sz="14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7429320" cy="360828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иемка единицы транспорта по данным постав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15640" y="1197000"/>
            <a:ext cx="74566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Для отражения поштучной приемки или приемки пиловочника по данным поставщика используется документ «Приходный ордер» с видом операции «Приемка пиловочника поштучно». В данном случае, пиловочник принимается от «Северной лесозаготовительной компании» по данным поставщика на ответственное хра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00120" y="2071800"/>
            <a:ext cx="7358040" cy="38210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писание пиловочника в лесоцех на сортир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15640" y="1197000"/>
            <a:ext cx="74566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ередача сырья в лесоцех на сортировку осуществляется документом «Списание в производство» с видом операции «Сортировка товаров к получению». Заполнять документ можно по данным приходного ордера (по единице транспорта), по остаткам в штабеле (складе) или по конкретному объему пиловочника конкретного штабеля (при этом автоматически набирается пиловочник на этот указанный объе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7707600" cy="3357720"/>
          </a:xfrm>
          <a:prstGeom prst="rect">
            <a:avLst/>
          </a:prstGeom>
          <a:ln w="0">
            <a:noFill/>
          </a:ln>
        </p:spPr>
      </p:pic>
      <p:sp>
        <p:nvSpPr>
          <p:cNvPr id="215" name="Скругленный прямоугольник 5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Сортиров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Выпуск сортированного пиловочника лесоце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Мастер лесоцеха или учетчик заполняют документ «Производственные операции» с видом технологической операции «Сортировка» в котором на закладке «Продукция» указывается результат сортировки (рассортированный пиловочник). При этом пиловочник передается на место хранения, указанное в табличной ч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7507080" cy="4000680"/>
          </a:xfrm>
          <a:prstGeom prst="rect">
            <a:avLst/>
          </a:prstGeom>
          <a:ln w="0">
            <a:noFill/>
          </a:ln>
        </p:spPr>
      </p:pic>
      <p:sp>
        <p:nvSpPr>
          <p:cNvPr id="219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Сортиров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формление поступления пиловочника по данным сорт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16000" y="1197000"/>
            <a:ext cx="731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Документ «Поступление товаров» отражает переход права собственности (приобретение) пиловочника и может заполняться по приходным ордерам (единицам транспорта), по рассортированному пиловочнику за период (партии). Оформляется учетчиком или отделом лесо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7643880" cy="3890880"/>
          </a:xfrm>
          <a:prstGeom prst="rect">
            <a:avLst/>
          </a:prstGeom>
          <a:ln w="0">
            <a:noFill/>
          </a:ln>
        </p:spPr>
      </p:pic>
      <p:sp>
        <p:nvSpPr>
          <p:cNvPr id="223" name="Скругленный прямоугольник 4"/>
          <p:cNvSpPr/>
          <p:nvPr/>
        </p:nvSpPr>
        <p:spPr>
          <a:xfrm>
            <a:off x="750096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поступления товаров от поставщ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тчет по закуп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16000" y="1197000"/>
            <a:ext cx="731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В программном продукте по каждому участку учета создана серия универсальных отчетов, которые позволяют пользователю настраивать состав строк и колонок отчета, порядок группировок, период от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пример, на основании универсального отчета по закупкам можно  построить отчет по приобретенному  пиловочнику в разрезе единиц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928880" y="2286000"/>
            <a:ext cx="5065560" cy="3770280"/>
          </a:xfrm>
          <a:prstGeom prst="rect">
            <a:avLst/>
          </a:prstGeom>
          <a:ln w="0">
            <a:noFill/>
          </a:ln>
        </p:spPr>
      </p:pic>
      <p:sp>
        <p:nvSpPr>
          <p:cNvPr id="227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поступления товаров от поставщ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324000" y="69228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системы Северо-Запад ЛТ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16000" y="1197000"/>
            <a:ext cx="6120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изация бизн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в предприятия путем созд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матизированной Системы Управления Предприятие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й набор услуг от бизнес-консалтинга до автоматизации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етний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0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артнер фирмы «1С» по направлениям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С:Франчайз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С:Консалт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имеет стату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компетенции по производств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компетенции по бюджетному уч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Gold Certified Partn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ET Premier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компании сертифицирована на соответствие стандар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900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10 г. успешно пройден ресертификационный аудит на соответствие стандар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9001:200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9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О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428840" cy="714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6304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"/>
          <p:cNvPicPr/>
          <p:nvPr/>
        </p:nvPicPr>
        <p:blipFill>
          <a:blip r:embed="rId3"/>
          <a:stretch/>
        </p:blipFill>
        <p:spPr>
          <a:xfrm>
            <a:off x="7380360" y="3213000"/>
            <a:ext cx="1614240" cy="7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Эксперт"/>
          <p:cNvPicPr/>
          <p:nvPr/>
        </p:nvPicPr>
        <p:blipFill>
          <a:blip r:embed="rId4"/>
          <a:stretch/>
        </p:blipFill>
        <p:spPr>
          <a:xfrm>
            <a:off x="7164360" y="2565360"/>
            <a:ext cx="1979640" cy="41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ИТС"/>
          <p:cNvPicPr/>
          <p:nvPr/>
        </p:nvPicPr>
        <p:blipFill>
          <a:blip r:embed="rId5"/>
          <a:stretch/>
        </p:blipFill>
        <p:spPr>
          <a:xfrm>
            <a:off x="7667640" y="5229360"/>
            <a:ext cx="925560" cy="118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консалтинг"/>
          <p:cNvPicPr/>
          <p:nvPr/>
        </p:nvPicPr>
        <p:blipFill>
          <a:blip r:embed="rId6"/>
          <a:stretch/>
        </p:blipFill>
        <p:spPr>
          <a:xfrm>
            <a:off x="7308720" y="1484280"/>
            <a:ext cx="1440000" cy="83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3" descr="микрософт"/>
          <p:cNvPicPr/>
          <p:nvPr/>
        </p:nvPicPr>
        <p:blipFill>
          <a:blip r:embed="rId7"/>
          <a:stretch/>
        </p:blipFill>
        <p:spPr>
          <a:xfrm>
            <a:off x="5508720" y="5661000"/>
            <a:ext cx="1425600" cy="808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ESET Corporate Premier Partner.jpg"/>
          <p:cNvPicPr/>
          <p:nvPr/>
        </p:nvPicPr>
        <p:blipFill>
          <a:blip r:embed="rId8"/>
          <a:stretch/>
        </p:blipFill>
        <p:spPr>
          <a:xfrm>
            <a:off x="2143080" y="5715000"/>
            <a:ext cx="1428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тчет по остаткам на с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16000" y="1197000"/>
            <a:ext cx="731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ниверсальный отчет по остаткам товаров на складах показывает как движение товаров, так и начальный и конечный остаток. Пользователь может настраивать состав колонок, строк, группировок отчета самостоятельно. Например, в качестве группировки отчета сделать признак нахождения товаров на ответственном хра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500200" y="2143080"/>
            <a:ext cx="4572000" cy="414036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пиловочника в  лесоце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ередача сырья и материалов ц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16000" y="1197000"/>
            <a:ext cx="731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ередача любого сырья, полуфабрикатов, материалов и продукции в цеха фиксируется документом «Списание товаров в производство» (по аналогии с технологическим этапом «Сортировка пиловочника»). В данном примере, учетчик отражает документом переданный в течение смены пиловочник в цех для распиловки. Документ можно заполнить либо конкретными позициями пиловочника, либо по остаткам определенного штабеля (места хран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214280" y="2357280"/>
            <a:ext cx="7786800" cy="339264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пиловочника в  лесоце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тражение выпуска сырых пил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четчик или мастер смены оформляет выпуск за смену документом «Производственные операции» по своему подразделению. При этом в табличной части документа указываются характеристики выпущенной продукции (как по количеству, так и по объем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7786800" cy="4143600"/>
          </a:xfrm>
          <a:prstGeom prst="rect">
            <a:avLst/>
          </a:prstGeom>
          <a:ln w="0">
            <a:noFill/>
          </a:ln>
        </p:spPr>
      </p:pic>
      <p:sp>
        <p:nvSpPr>
          <p:cNvPr id="239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 лесоцехом сортированного сырого п/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тражение выпуска сырых пил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и этом цех так же указывает на закладке «Материалы» потребленное сырье и материалы, т.к. переданные сырье и материалы документом «Списание в производство» числятся за цех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7715520" cy="4110120"/>
          </a:xfrm>
          <a:prstGeom prst="rect">
            <a:avLst/>
          </a:prstGeom>
          <a:ln w="0">
            <a:noFill/>
          </a:ln>
        </p:spPr>
      </p:pic>
      <p:sp>
        <p:nvSpPr>
          <p:cNvPr id="243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 лесоцехом сортированного сырого п/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ередача пакетов пиломатериалов в с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четчик фиксирует передачу пакетов сырых пиломатериалов в сушку оформляется документом «Списание в производство». При этом сырые пиломатериалы списываются со склада отправителя и появляются в производственном подразделении. Заполнение документа можно производить по номерам пак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357200" y="2143080"/>
            <a:ext cx="7500960" cy="399564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сырого пакетированного п/м в суш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ередача пакетов пиломатериалов в с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Факт передачи сырья, материалов, полуфабрикатов и готовой продукции в производственное подразделение виден в отчете «Материалы в производстве». Отчет показывает остатки материалов в производственных подразделениях, за использование которых цех не отчит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2428920" y="1928880"/>
            <a:ext cx="4643280" cy="4529160"/>
          </a:xfrm>
          <a:prstGeom prst="rect">
            <a:avLst/>
          </a:prstGeom>
          <a:ln w="0">
            <a:noFill/>
          </a:ln>
        </p:spPr>
      </p:pic>
      <p:sp>
        <p:nvSpPr>
          <p:cNvPr id="251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сырого пакетированного п/м в суш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Выпуск сухих пакетов пиломатериалов из с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Выпуск сухих пиломатериалов цехом сушки (так же как и выпуск любой продукции и полуфабрикатов любым цехом) оформляется документом «Производственные операции». На закладке «Продукция» указываются характеристики выпущенных пак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85920" y="2000160"/>
            <a:ext cx="7643880" cy="4071960"/>
          </a:xfrm>
          <a:prstGeom prst="rect">
            <a:avLst/>
          </a:prstGeom>
          <a:ln w="0">
            <a:noFill/>
          </a:ln>
        </p:spPr>
      </p:pic>
      <p:sp>
        <p:nvSpPr>
          <p:cNvPr id="255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ухих п/м из сушки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Выпуск сухих пакетов пиломатериалов из с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и этом на закладке «Материалы» указываются сырые пакеты пиломатериалов (например, автоматически остатками пиломатериалов в производстве - в камере суш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7753680" cy="41292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ухих п/м из сушки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очие операции дерево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Отражение любых операций по деревообработке отражается по аналогии с приведенным в презентации примером по технологической операции «Пиление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Документом «Списание в производство» сырье или полуфабрикат списывается в производственное подразд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оизводственное подразделение отчитывается за выпуск и потребленное сырье, полуфабрикаты и материалы документом «Производственные операц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3"/>
          <p:cNvSpPr/>
          <p:nvPr/>
        </p:nvSpPr>
        <p:spPr>
          <a:xfrm>
            <a:off x="3857760" y="464328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Регистрация наряд-задания складу на отрузку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низ 4"/>
          <p:cNvSpPr/>
          <p:nvPr/>
        </p:nvSpPr>
        <p:spPr>
          <a:xfrm rot="2190600">
            <a:off x="5971680" y="431496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9df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5"/>
          <p:cNvSpPr/>
          <p:nvPr/>
        </p:nvSpPr>
        <p:spPr>
          <a:xfrm>
            <a:off x="6357960" y="2857680"/>
            <a:ext cx="19288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ухих п/м из сушки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низ 6"/>
          <p:cNvSpPr/>
          <p:nvPr/>
        </p:nvSpPr>
        <p:spPr>
          <a:xfrm rot="18589200">
            <a:off x="3390840" y="432720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9df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7"/>
          <p:cNvSpPr/>
          <p:nvPr/>
        </p:nvSpPr>
        <p:spPr>
          <a:xfrm rot="10800000">
            <a:off x="6000480" y="3357360"/>
            <a:ext cx="2142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9df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8"/>
          <p:cNvSpPr/>
          <p:nvPr/>
        </p:nvSpPr>
        <p:spPr>
          <a:xfrm>
            <a:off x="3929040" y="2857680"/>
            <a:ext cx="19288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сухих п/м на торцовку и строж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9"/>
          <p:cNvSpPr/>
          <p:nvPr/>
        </p:nvSpPr>
        <p:spPr>
          <a:xfrm>
            <a:off x="1428840" y="2857680"/>
            <a:ext cx="200016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троганых п/м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право 10"/>
          <p:cNvSpPr/>
          <p:nvPr/>
        </p:nvSpPr>
        <p:spPr>
          <a:xfrm rot="10800000">
            <a:off x="3571560" y="3357360"/>
            <a:ext cx="2142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9df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Регистрация наряд задания на отгру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Коммерческая служба регистрирует в системе наряд-задание (общее на партию продукции) и спецификации (на каждую единицу транспорта) на отгрузку готовой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214720" y="1785960"/>
            <a:ext cx="5311440" cy="4643280"/>
          </a:xfrm>
          <a:prstGeom prst="rect">
            <a:avLst/>
          </a:prstGeom>
          <a:ln w="0">
            <a:noFill/>
          </a:ln>
        </p:spPr>
      </p:pic>
      <p:sp>
        <p:nvSpPr>
          <p:cNvPr id="273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Регистрация наряд-задания складу на отрузку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 компании разработч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Компания «Неосистемы Северо-Запад ЛТД» работает более 20-ти лет, оказывая услуги по оптимизации и автоматизации бизнес-процессов предприятий. Одним из наиболее приоритетных направлений работы является работа по автоматизации предприятий лесопромышленного комплекс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Компания является одним из ведущих партнеров фирмы «1С», имеет статусы «1С:Франчайзинг», «1С:Консалтинг» и «Центр компетенции по производству». Процессы компании сертифицированы на соответствие стандарту 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ISO 9001:200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ограммные продукты для лесопромышленного комплекса созданы на основе опыта автоматизации более 50 предприятий, среди которых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ООО «Северная лесозаготовительная компания»,  ООО «Медвежьегорский ЛПХ», ООО «ЛДК «Сегежский», ЗАО «Лесопильно-деревообрабатывающий комплекс Игирма», ЗАО  «Шуялес», ОАО «Карелия ДСП»,  ООО «Фортуна»,  ЗАО «Соломенский лесозавод»,</a:t>
            </a: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ОАО «Ладэнсо», ОАО «Ильинский лесопильный завод», ОАО «Тёгренский КЛПХ», ОАО Воломский КЛПХ «Лескарел», ООО «Аргус СФК», ОАО «Ухтуа». ООО «Прогресс», ОАО «Паданы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Более подробную информацию об опыте работы нашей компании и описания внедренных решений  смотрите на нашем сайте </a:t>
            </a:r>
            <a:r>
              <a:rPr b="1" lang="en-US" sz="1200" spc="-1" strike="noStrike">
                <a:solidFill>
                  <a:srgbClr val="222268"/>
                </a:solidFill>
                <a:latin typeface="Arial"/>
              </a:rPr>
              <a:t>http://lesprom.neosystems.ru/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 в разделе «Внедренные реш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e1e2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Регистрация наряд задания на отгру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Для каждой единицы транспорта формируются отгрузочные спец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6034320" cy="4892760"/>
          </a:xfrm>
          <a:prstGeom prst="rect">
            <a:avLst/>
          </a:prstGeom>
          <a:ln w="0">
            <a:noFill/>
          </a:ln>
        </p:spPr>
      </p:pic>
      <p:sp>
        <p:nvSpPr>
          <p:cNvPr id="277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Регистрация наряд-задания складу на отрузку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Комплектация пакетов пиломатериалов под отгрузк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чальник склада готовой продукции или учетчик комплектуют пакеты под отгрузочные спецификации. Скомплектованные под отгрузку пакеты находятся в резерве и не могут быть перемещены или отгружены другим покупателям в учетн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дбор пакетов пиломатериалов осуществляется при помощи специальной обработки, которая позволяет отбирать пакеты с определенными свойствами с остат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85920" y="2286000"/>
            <a:ext cx="7643880" cy="3929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Комплектация пакетов п/м на СГП под отгрузочные спец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одбор пакетов пиломатериалов в комплек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850080" cy="492912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Комплектация пакетов п/м на СГП под отгрузочные спец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тгрузка пиломатериала с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Учетчик склада фиксирует документом «Расходный ордер на товары» фактически отгружаемую продукцию. При этом проверяется соответствие отгружаемой продукции зарезервированной. Документ может быть заполнен автоматически по данным комплек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757260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грузка ГП со скла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формление реализации товаров покуп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Оформление реализации товаров покупателю оформляется документом «Реализация товаров». При этом, если на предприятии принята схема раздельной отгрузки (наряд-задание, спецификация, комплектация, отгрузка и/или реализация), то документ оформляется с видом операции «Сложная отгрузка по ордеру» и обязательно указывается орд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Если отгрузка происходит без комплектации, то вид операции устанавливается «Простая отгрузка по ордеру» или «Простая отгрузка по складу» (если операции совмеще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214280" y="2643120"/>
            <a:ext cx="7572600" cy="3056040"/>
          </a:xfrm>
          <a:prstGeom prst="rect">
            <a:avLst/>
          </a:prstGeom>
          <a:ln w="0">
            <a:noFill/>
          </a:ln>
        </p:spPr>
      </p:pic>
      <p:sp>
        <p:nvSpPr>
          <p:cNvPr id="292" name="Скругленный прямоугольник 4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реализации товаров покупател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Учет рекламации от покуп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16000" y="1196640"/>
            <a:ext cx="73137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Если покупатель по данным приемки продукции не согласен с объемами или заявленными свойствами продукции, предприятие соглашается с покупателем и корректирует документы по отгруженной продукции, то оформляется документ «Корректировка сумм реализации». При этом по складскому учету отгруженная покупателю продукция не сторнируется, а изменяется только информация по продажам на основе согласованных с покупателем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3"/>
          <p:cNvSpPr/>
          <p:nvPr/>
        </p:nvSpPr>
        <p:spPr>
          <a:xfrm>
            <a:off x="7429680" y="28584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реализации товаров покупател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6405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тоимость программного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14280" y="3785760"/>
            <a:ext cx="757080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Условия приобрет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«Неосистемы Лесозавод Стандарт 8.2» является оригинальной конфигурацией, функционирующей на платформе «1С:Предприятие 8», поэтому у Вас должен быть приобретен любой продукт фирмы «1С» на платформе «1С:Предприятие 8» (например, «1С:Бухгалтерия 8»), чтобы обеспечить наличие платформы и аппаратных ключей защиты к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«Неосистемы Лесозавод Стандарт 8.2» лицензируется по рабочим местам аппаратными ключами защиты. В состав базой поставки продукта входит аппаратный ключ защиты на 1 (Одно)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Аппаратные ключи защиты (многопользовательские лицензии) к платформе «1С:Предприятие 8» не входят в состав по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285920" y="1500120"/>
          <a:ext cx="7500960" cy="1928880"/>
        </p:xfrm>
        <a:graphic>
          <a:graphicData uri="http://schemas.openxmlformats.org/drawingml/2006/table">
            <a:tbl>
              <a:tblPr/>
              <a:tblGrid>
                <a:gridCol w="6446880"/>
                <a:gridCol w="10540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системы: Лесозавод Стандарт 8.2. Редакция 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системы: Лесозавод Стандарт 8.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лицензия на 1 рабоче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системы: Лесозавод Стандарт 8.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лицензия 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че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системы: Лесозавод Стандарт 8.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лицензия 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чих м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системы: Лесозавод Стандарт 8.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лицензия на 20 рабочих м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Ценность программного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28840" y="1357200"/>
          <a:ext cx="7215120" cy="4500720"/>
        </p:xfrm>
        <a:graphic>
          <a:graphicData uri="http://schemas.openxmlformats.org/drawingml/2006/table">
            <a:tbl>
              <a:tblPr/>
              <a:tblGrid>
                <a:gridCol w="2206440"/>
                <a:gridCol w="50086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цен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ю и собственнику пред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ет организовать безбумажный оперативный учет с необходимой аналитической полнот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ет в любой момент времени анализировать и контролировать деятельность предприятия, в т.ч. удаленно через сеть Интернет при помощи обычного веб-брауз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ет совершенствовать процессы учета и управления, поддерживая их исполнение на уровне автоматизирова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м пред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ет обладать оперативной информацией об остатках, потреблении и производстве пиловочника, полуфабрикатов, отходов и пиломатериалов, которая необходима для качественного выполнения свое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ет фиксировать свою операцию в составе общего бизнес-процесса на основе уже введенной предыдущими исполнителями операции, при этом зоны ответственности между службами разделены разными документ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Условия поддержки и организация линии 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857240" y="1143000"/>
            <a:ext cx="632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Линия консультаций по программному продукту доступна по телефо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+7 (8142) 67-21-20 с 09.00 до 18.00 (МС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Вы так же можете задавать свои вопросы по электронному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promo@neosystems.ru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partners@neosystem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Бесплатно оказываются консультации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и наличии действующей подписки на информационно-технологическое сопровождение - ИТС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установке программного продукта, его настрой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установке и настройке аппаратной защиты программного проду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использованию программного продукта без анализа информационной базы кли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планам развития программного проду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ри обращении на линию консультации, пожалуйста, указыв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Регистрационный номер продукта (указан на регистрационной анке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Наименование организации и контактную информацию для обратн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052"/>
          <p:cNvSpPr/>
          <p:nvPr/>
        </p:nvSpPr>
        <p:spPr>
          <a:xfrm>
            <a:off x="1258920" y="2857680"/>
            <a:ext cx="728964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Адрес офиса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ООО «Неосистемы Северо-Запад ЛТ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185035,  Республика Кар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г. Петрозаводск, ул. Кирова, д.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Тел.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факс (8142) 67-21-20,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 67-21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E-mail: promo@neosystems.ru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partners@neosystem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http://</a:t>
            </a: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lesprom</a:t>
            </a: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.neosystem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55"/>
          <p:cNvSpPr/>
          <p:nvPr/>
        </p:nvSpPr>
        <p:spPr>
          <a:xfrm>
            <a:off x="1116000" y="1357200"/>
            <a:ext cx="782316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38000"/>
                </a:solidFill>
                <a:latin typeface="Times New Roman"/>
              </a:rPr>
              <a:t>Будем рады ответить на Ваши вопросы и предоставить любую дополнитель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56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КОНТАКТНАЯ 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Функциональные возможности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16000" y="1196640"/>
            <a:ext cx="75708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2268"/>
                </a:solidFill>
                <a:latin typeface="Arial"/>
              </a:rPr>
              <a:t>Управление закупками пиловочника и пиломатериа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оштучная приемка пиловочника, пиломатериалов и прочих материа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риемка пиловочника по геометрическому обмеру (ГОС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риемка пиловочника по контрольному замеру (ГОС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риемка на ответственное хра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риобретение (переход права собственности) пиловочника по результатам сортиро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Возврат товаров поставщи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2268"/>
                </a:solidFill>
                <a:latin typeface="Arial"/>
              </a:rPr>
              <a:t>Управление складами пиловочника, пиломатериалов и отх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еремещение пиловочника, полуфабрикатов, готовой продукции и отходов между местами хран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Списание в производство и на собственные нужды, оприходование излиш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Инвентаризация складов пиловочника, пиломатериалов и отх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2268"/>
                </a:solidFill>
                <a:latin typeface="Arial"/>
              </a:rPr>
              <a:t>Отражение выпуска и потребленного сырья по технологическим передел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Сортировка пиловочн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Окорка пиловочн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и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Сортировка сырого и сухого пило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Пакетирование полуфабрикатов и готовой проду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Сушка пиломатериа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Строжка, профилирование, сращивание и прочие операции деревообработ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2268"/>
                </a:solidFill>
                <a:latin typeface="Arial"/>
              </a:rPr>
              <a:t>Управление складом готовой проду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Комплектация пакетов под отгрузочные спецификации (наряд на погрузк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Отгрузка пиловочника, пиломатериалов, отходов и полуфабрикатов со скла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2268"/>
                </a:solidFill>
                <a:latin typeface="Arial"/>
              </a:rPr>
              <a:t>Управление продажами пиловочника и готовой проду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Формирование реализации по данным фактической отгрузки склада под наряд на погруз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68"/>
                </a:solidFill>
                <a:latin typeface="Arial"/>
              </a:rPr>
              <a:t>Учет рекламаций и корректировка реализации по данным покупа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Аналитические возможности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15640" y="1197000"/>
            <a:ext cx="3956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налитические разре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о сме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о брига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о подразделениям (цеха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о единицам тран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о нескольким организ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Учет пиловочника п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Поро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Сорт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Длин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Диаметр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Влаж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Количеств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Объем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2268"/>
                </a:solidFill>
                <a:latin typeface="Arial"/>
              </a:rPr>
              <a:t>Учет пиломатериалов п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Поро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Сорт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Длин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Сечени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Влаж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Номерам паке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Количеств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7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Объем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4857840" y="1143000"/>
            <a:ext cx="428616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налитическая отче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товарам к получению (принятым на склад, но еще не приобретенны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закупкам ТМ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остаткам и движению ТМЦ (в т.ч. находящимся на ответственном хранен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остаткам материалов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выпуску продукции, полуфабрикатов и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товарам к реализации (отгруженные со склада, но еще не реализованн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товарам в резерве (зарезервированная под отгрузку продукц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продажам ТМ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976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Демонстрация программного продукта на конкретном примере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1143000" y="1285920"/>
            <a:ext cx="735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1214280" y="121428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1928880" y="2214720"/>
            <a:ext cx="1357200" cy="57132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Сортиров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3500280" y="2214720"/>
            <a:ext cx="150048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пиловочника в  лесоце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5214960" y="2214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 лесоцехом сортированного сырого п/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1"/>
          <p:cNvSpPr/>
          <p:nvPr/>
        </p:nvSpPr>
        <p:spPr>
          <a:xfrm>
            <a:off x="5214960" y="4500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Регистрация наряд-задания складу на отрузку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2"/>
          <p:cNvSpPr/>
          <p:nvPr/>
        </p:nvSpPr>
        <p:spPr>
          <a:xfrm>
            <a:off x="3500280" y="4500720"/>
            <a:ext cx="150048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Комплектация пакетов п/м на СГП под отгрузочные спец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3"/>
          <p:cNvSpPr/>
          <p:nvPr/>
        </p:nvSpPr>
        <p:spPr>
          <a:xfrm>
            <a:off x="1785960" y="4500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грузка ГП со скла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4"/>
          <p:cNvSpPr/>
          <p:nvPr/>
        </p:nvSpPr>
        <p:spPr>
          <a:xfrm>
            <a:off x="1785960" y="5643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реализации товаров покупател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3571920" y="5643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Учет входящей рекламации и корректировка реал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17"/>
          <p:cNvSpPr/>
          <p:nvPr/>
        </p:nvSpPr>
        <p:spPr>
          <a:xfrm rot="5400000">
            <a:off x="2256120" y="1804320"/>
            <a:ext cx="335160" cy="361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08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18"/>
          <p:cNvSpPr/>
          <p:nvPr/>
        </p:nvSpPr>
        <p:spPr>
          <a:xfrm>
            <a:off x="3286080" y="236700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право 19"/>
          <p:cNvSpPr/>
          <p:nvPr/>
        </p:nvSpPr>
        <p:spPr>
          <a:xfrm>
            <a:off x="5000760" y="2357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20"/>
          <p:cNvSpPr/>
          <p:nvPr/>
        </p:nvSpPr>
        <p:spPr>
          <a:xfrm>
            <a:off x="6715080" y="2357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21"/>
          <p:cNvSpPr/>
          <p:nvPr/>
        </p:nvSpPr>
        <p:spPr>
          <a:xfrm>
            <a:off x="3286080" y="592920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22"/>
          <p:cNvSpPr/>
          <p:nvPr/>
        </p:nvSpPr>
        <p:spPr>
          <a:xfrm>
            <a:off x="7500960" y="300024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низ 23"/>
          <p:cNvSpPr/>
          <p:nvPr/>
        </p:nvSpPr>
        <p:spPr>
          <a:xfrm rot="2190600">
            <a:off x="6614640" y="410040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401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низ 24"/>
          <p:cNvSpPr/>
          <p:nvPr/>
        </p:nvSpPr>
        <p:spPr>
          <a:xfrm rot="18589200">
            <a:off x="4895640" y="411264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9212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25"/>
          <p:cNvSpPr/>
          <p:nvPr/>
        </p:nvSpPr>
        <p:spPr>
          <a:xfrm rot="10800000">
            <a:off x="6714720" y="3500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26"/>
          <p:cNvSpPr/>
          <p:nvPr/>
        </p:nvSpPr>
        <p:spPr>
          <a:xfrm rot="10800000">
            <a:off x="5000400" y="3500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27"/>
          <p:cNvSpPr/>
          <p:nvPr/>
        </p:nvSpPr>
        <p:spPr>
          <a:xfrm rot="10800000">
            <a:off x="5000400" y="4643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28"/>
          <p:cNvSpPr/>
          <p:nvPr/>
        </p:nvSpPr>
        <p:spPr>
          <a:xfrm rot="10800000">
            <a:off x="3285720" y="464328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низ 29"/>
          <p:cNvSpPr/>
          <p:nvPr/>
        </p:nvSpPr>
        <p:spPr>
          <a:xfrm>
            <a:off x="2357280" y="528624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0"/>
          <p:cNvSpPr/>
          <p:nvPr/>
        </p:nvSpPr>
        <p:spPr>
          <a:xfrm>
            <a:off x="2786040" y="285768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31"/>
          <p:cNvSpPr/>
          <p:nvPr/>
        </p:nvSpPr>
        <p:spPr>
          <a:xfrm>
            <a:off x="1785960" y="321480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формление поступления товаров от поставщ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32"/>
          <p:cNvSpPr/>
          <p:nvPr/>
        </p:nvSpPr>
        <p:spPr>
          <a:xfrm>
            <a:off x="7000920" y="2214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сырого пакетированного п/м в суш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33"/>
          <p:cNvSpPr/>
          <p:nvPr/>
        </p:nvSpPr>
        <p:spPr>
          <a:xfrm>
            <a:off x="7000920" y="335772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ухих п/м из сушки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4"/>
          <p:cNvSpPr/>
          <p:nvPr/>
        </p:nvSpPr>
        <p:spPr>
          <a:xfrm>
            <a:off x="5214960" y="3286080"/>
            <a:ext cx="1500120" cy="71460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ередача сухих п/м на торцовку и строж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5"/>
          <p:cNvSpPr/>
          <p:nvPr/>
        </p:nvSpPr>
        <p:spPr>
          <a:xfrm>
            <a:off x="3429000" y="3214800"/>
            <a:ext cx="1500120" cy="71424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Отражение выпуска строганых п/м на склад Г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Условия приемки пилово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57200" y="1214280"/>
            <a:ext cx="70725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 приведенном примере хранение разгруженного с транспорта пиловочника на бирже сырья организовано в 4-х штабелях (каждый закреплен за своим поставщиком), при этом, действуют следующие условия договоров постав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85920" y="2071800"/>
          <a:ext cx="7572240" cy="3286080"/>
        </p:xfrm>
        <a:graphic>
          <a:graphicData uri="http://schemas.openxmlformats.org/drawingml/2006/table">
            <a:tbl>
              <a:tblPr/>
              <a:tblGrid>
                <a:gridCol w="1893960"/>
                <a:gridCol w="1261800"/>
                <a:gridCol w="2524320"/>
                <a:gridCol w="189216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б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приемки пиловочника по условиям договора поста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приобретения пиловочника по договору поста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лесозаготовительная комп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бель 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ка пиловочника на ответственное хранение осуществляется по данным поставщ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ление пиловочника  оформляется по данным линии сортировки на каждую ед. трансп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>
                      <a:noFill/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озерский леспромхо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бель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ка пиловочника по контрольному замер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ление пиловочника оформляется по данным контрольного замера на каждую ед. трансп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вежегорский леспромхо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бель 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бель 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ка пиловочника на ответственное хранение, оценка объема по геометрическому замеру с определением коэффициента полнодрев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ление пиловочника  оформляется по данным линии сортировки одним документом за недельную парт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8"/>
          <p:cNvSpPr/>
          <p:nvPr/>
        </p:nvSpPr>
        <p:spPr>
          <a:xfrm>
            <a:off x="1857240" y="5286240"/>
            <a:ext cx="707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«Межвежьегорскому леспромхозу» необходимо выставлять документы раз в неделю за всю партию целиком, поэтому приемка организована в два штабеля. Первую неделю транспорт разгружается в штабель 02, и, если сортировка не успевает рассортировывать поступающий пиловочник, то в следующую неделю пиловочник складирую в штабель 03. В это время рассортировывают 02 штаб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Организация хранения пилов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16000" y="1197000"/>
            <a:ext cx="73850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Хранение рассортированного пиловочника осуществляется в 4-х штабелях в каждом из которых пиловочник принадлежит к определенной группе диаметров и породе. Схема хранения пиловочника приведена ниже (в программе можно настроить любую схем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3"/>
          <p:cNvSpPr/>
          <p:nvPr/>
        </p:nvSpPr>
        <p:spPr>
          <a:xfrm>
            <a:off x="1714680" y="242892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Северная лесозаготовительная компан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"/>
          <p:cNvSpPr/>
          <p:nvPr/>
        </p:nvSpPr>
        <p:spPr>
          <a:xfrm>
            <a:off x="1714680" y="3357720"/>
            <a:ext cx="171432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Пяозерский леспромхоз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"/>
          <p:cNvSpPr/>
          <p:nvPr/>
        </p:nvSpPr>
        <p:spPr>
          <a:xfrm>
            <a:off x="1714680" y="428616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Медвежегорский леспромхоз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6"/>
          <p:cNvSpPr/>
          <p:nvPr/>
        </p:nvSpPr>
        <p:spPr>
          <a:xfrm>
            <a:off x="1714680" y="521496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Медвежегорский леспромхоз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7"/>
          <p:cNvSpPr/>
          <p:nvPr/>
        </p:nvSpPr>
        <p:spPr>
          <a:xfrm>
            <a:off x="6858000" y="242892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Сосна 14-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8"/>
          <p:cNvSpPr/>
          <p:nvPr/>
        </p:nvSpPr>
        <p:spPr>
          <a:xfrm>
            <a:off x="6858000" y="3357720"/>
            <a:ext cx="171468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Сосна 1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7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19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9"/>
          <p:cNvSpPr/>
          <p:nvPr/>
        </p:nvSpPr>
        <p:spPr>
          <a:xfrm>
            <a:off x="6858000" y="428616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Сосна 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20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22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10"/>
          <p:cNvSpPr/>
          <p:nvPr/>
        </p:nvSpPr>
        <p:spPr>
          <a:xfrm>
            <a:off x="6858000" y="521496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Штабель 1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(Сосна 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-4</a:t>
            </a:r>
            <a:r>
              <a:rPr b="0" lang="en-US" sz="11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сорт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11"/>
          <p:cNvSpPr/>
          <p:nvPr/>
        </p:nvSpPr>
        <p:spPr>
          <a:xfrm>
            <a:off x="3571920" y="3786120"/>
            <a:ext cx="64296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e9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право 12"/>
          <p:cNvSpPr/>
          <p:nvPr/>
        </p:nvSpPr>
        <p:spPr>
          <a:xfrm>
            <a:off x="6072120" y="3786120"/>
            <a:ext cx="64296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e9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3"/>
          <p:cNvSpPr/>
          <p:nvPr/>
        </p:nvSpPr>
        <p:spPr>
          <a:xfrm>
            <a:off x="4286160" y="378612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fde9b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Сортиров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Контрольный замер единицы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6000" y="1197000"/>
            <a:ext cx="731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"/>
              </a:rPr>
              <a:t>По условиям договора с «Пяозерским леспромхозом» пиловочник принимается к учету по данным контрольного замера единицы транспорта из партии в соответствии с ГОСТ. Распределение по сортам и диаметрам пиловочника единиц транспорта одной партии производится в соответствии с произведе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928880" y="2071800"/>
            <a:ext cx="6429240" cy="430668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4"/>
          <p:cNvSpPr/>
          <p:nvPr/>
        </p:nvSpPr>
        <p:spPr>
          <a:xfrm>
            <a:off x="7572240" y="357120"/>
            <a:ext cx="13575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1e1e6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Impact"/>
              </a:rPr>
              <a:t>Приемка пиловоч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8:12:18Z</dcterms:created>
  <dc:creator>vaYs</dc:creator>
  <dc:description/>
  <dc:language>en-US</dc:language>
  <cp:lastModifiedBy>Darianna.Durakova</cp:lastModifiedBy>
  <dcterms:modified xsi:type="dcterms:W3CDTF">2011-04-19T08:45:54Z</dcterms:modified>
  <cp:revision>89</cp:revision>
  <dc:subject/>
  <dc:title>Слайд 1</dc:title>
</cp:coreProperties>
</file>