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620640"/>
            <a:ext cx="1116000" cy="2087640"/>
          </a:xfrm>
          <a:prstGeom prst="rect">
            <a:avLst/>
          </a:prstGeom>
          <a:gradFill rotWithShape="0">
            <a:gsLst>
              <a:gs pos="0">
                <a:srgbClr val="fbefc5"/>
              </a:gs>
              <a:gs pos="100000">
                <a:srgbClr val="fac8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2"/>
          <p:cNvGrpSpPr/>
          <p:nvPr/>
        </p:nvGrpSpPr>
        <p:grpSpPr>
          <a:xfrm>
            <a:off x="0" y="0"/>
            <a:ext cx="9144000" cy="658800"/>
            <a:chOff x="0" y="0"/>
            <a:chExt cx="9144000" cy="658800"/>
          </a:xfrm>
        </p:grpSpPr>
        <p:pic>
          <p:nvPicPr>
            <p:cNvPr id="2" name="Picture 31" descr="logo"/>
            <p:cNvPicPr/>
            <p:nvPr/>
          </p:nvPicPr>
          <p:blipFill>
            <a:blip r:embed="rId2"/>
            <a:stretch/>
          </p:blipFill>
          <p:spPr>
            <a:xfrm>
              <a:off x="1979640" y="0"/>
              <a:ext cx="716436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9" descr="logo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003640" cy="65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28"/>
          <p:cNvGrpSpPr/>
          <p:nvPr/>
        </p:nvGrpSpPr>
        <p:grpSpPr>
          <a:xfrm>
            <a:off x="1835280" y="6497640"/>
            <a:ext cx="7308720" cy="360360"/>
            <a:chOff x="1835280" y="6497640"/>
            <a:chExt cx="7308720" cy="360360"/>
          </a:xfrm>
        </p:grpSpPr>
        <p:sp>
          <p:nvSpPr>
            <p:cNvPr id="5" name="Rectangle 11"/>
            <p:cNvSpPr/>
            <p:nvPr/>
          </p:nvSpPr>
          <p:spPr>
            <a:xfrm>
              <a:off x="1835280" y="6497640"/>
              <a:ext cx="7308720" cy="3603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997840" y="6497640"/>
              <a:ext cx="142920" cy="360360"/>
            </a:xfrm>
            <a:prstGeom prst="pie">
              <a:avLst/>
            </a:prstGeom>
            <a:solidFill>
              <a:srgbClr val="f3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Rectangle 14"/>
          <p:cNvSpPr/>
          <p:nvPr/>
        </p:nvSpPr>
        <p:spPr>
          <a:xfrm>
            <a:off x="0" y="2708280"/>
            <a:ext cx="1116000" cy="4149720"/>
          </a:xfrm>
          <a:prstGeom prst="rect">
            <a:avLst/>
          </a:prstGeom>
          <a:solidFill>
            <a:srgbClr val="fac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1"/>
          <p:cNvSpPr/>
          <p:nvPr/>
        </p:nvSpPr>
        <p:spPr>
          <a:xfrm>
            <a:off x="6443640" y="6541920"/>
            <a:ext cx="24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esprom.neosystem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17"/>
          <p:cNvGrpSpPr/>
          <p:nvPr/>
        </p:nvGrpSpPr>
        <p:grpSpPr>
          <a:xfrm>
            <a:off x="74520" y="647640"/>
            <a:ext cx="9069480" cy="503280"/>
            <a:chOff x="74520" y="647640"/>
            <a:chExt cx="9069480" cy="503280"/>
          </a:xfrm>
        </p:grpSpPr>
        <p:sp>
          <p:nvSpPr>
            <p:cNvPr id="10" name="Rectangle 18"/>
            <p:cNvSpPr/>
            <p:nvPr/>
          </p:nvSpPr>
          <p:spPr>
            <a:xfrm>
              <a:off x="74520" y="647640"/>
              <a:ext cx="9069480" cy="503280"/>
            </a:xfrm>
            <a:prstGeom prst="rect">
              <a:avLst/>
            </a:prstGeom>
            <a:solidFill>
              <a:srgbClr val="f3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74520" y="647640"/>
              <a:ext cx="216000" cy="50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20"/>
          <p:cNvGrpSpPr/>
          <p:nvPr/>
        </p:nvGrpSpPr>
        <p:grpSpPr>
          <a:xfrm>
            <a:off x="71280" y="1413000"/>
            <a:ext cx="952560" cy="4459320"/>
            <a:chOff x="71280" y="1413000"/>
            <a:chExt cx="952560" cy="4459320"/>
          </a:xfrm>
        </p:grpSpPr>
        <p:pic>
          <p:nvPicPr>
            <p:cNvPr id="13" name="Picture 21" descr="лесной фонд"/>
            <p:cNvPicPr/>
            <p:nvPr/>
          </p:nvPicPr>
          <p:blipFill>
            <a:blip r:embed="rId4"/>
            <a:stretch/>
          </p:blipFill>
          <p:spPr>
            <a:xfrm>
              <a:off x="71280" y="1413000"/>
              <a:ext cx="952560" cy="714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4" name="Picture 22" descr="лесозаготовка"/>
            <p:cNvPicPr/>
            <p:nvPr/>
          </p:nvPicPr>
          <p:blipFill>
            <a:blip r:embed="rId5"/>
            <a:stretch/>
          </p:blipFill>
          <p:spPr>
            <a:xfrm>
              <a:off x="71280" y="234936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5" name="Picture 23" descr="деревообработка"/>
            <p:cNvPicPr/>
            <p:nvPr/>
          </p:nvPicPr>
          <p:blipFill>
            <a:blip r:embed="rId6"/>
            <a:stretch/>
          </p:blipFill>
          <p:spPr>
            <a:xfrm>
              <a:off x="71280" y="3284640"/>
              <a:ext cx="952560" cy="714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6" name="Picture 24" descr="Бумага"/>
            <p:cNvPicPr/>
            <p:nvPr/>
          </p:nvPicPr>
          <p:blipFill>
            <a:blip r:embed="rId7"/>
            <a:stretch/>
          </p:blipFill>
          <p:spPr>
            <a:xfrm>
              <a:off x="71280" y="515772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7" name="Picture 25" descr="отгрузка продукц"/>
            <p:cNvPicPr/>
            <p:nvPr/>
          </p:nvPicPr>
          <p:blipFill>
            <a:blip r:embed="rId8"/>
            <a:stretch/>
          </p:blipFill>
          <p:spPr>
            <a:xfrm>
              <a:off x="71280" y="422100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pic>
        <p:nvPicPr>
          <p:cNvPr id="18" name="Picture 26" descr="ISO 9001"/>
          <p:cNvPicPr/>
          <p:nvPr/>
        </p:nvPicPr>
        <p:blipFill>
          <a:blip r:embed="rId9"/>
          <a:stretch/>
        </p:blipFill>
        <p:spPr>
          <a:xfrm>
            <a:off x="0" y="5977080"/>
            <a:ext cx="1857240" cy="88092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27" descr="бревно"/>
          <p:cNvPicPr/>
          <p:nvPr/>
        </p:nvPicPr>
        <p:blipFill>
          <a:blip r:embed="rId10"/>
          <a:stretch/>
        </p:blipFill>
        <p:spPr>
          <a:xfrm>
            <a:off x="8456760" y="0"/>
            <a:ext cx="687240" cy="20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1"/>
          <p:cNvSpPr/>
          <p:nvPr/>
        </p:nvSpPr>
        <p:spPr>
          <a:xfrm>
            <a:off x="7164360" y="620640"/>
            <a:ext cx="1979640" cy="2087640"/>
          </a:xfrm>
          <a:prstGeom prst="rect">
            <a:avLst/>
          </a:prstGeom>
          <a:gradFill rotWithShape="0">
            <a:gsLst>
              <a:gs pos="0">
                <a:srgbClr val="fae6c8"/>
              </a:gs>
              <a:gs pos="100000">
                <a:srgbClr val="fac8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4"/>
          <p:cNvSpPr/>
          <p:nvPr/>
        </p:nvSpPr>
        <p:spPr>
          <a:xfrm>
            <a:off x="0" y="620640"/>
            <a:ext cx="1116000" cy="2087640"/>
          </a:xfrm>
          <a:prstGeom prst="rect">
            <a:avLst/>
          </a:prstGeom>
          <a:gradFill rotWithShape="0">
            <a:gsLst>
              <a:gs pos="0">
                <a:srgbClr val="fbefc5"/>
              </a:gs>
              <a:gs pos="100000">
                <a:srgbClr val="fac87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25"/>
          <p:cNvGrpSpPr/>
          <p:nvPr/>
        </p:nvGrpSpPr>
        <p:grpSpPr>
          <a:xfrm>
            <a:off x="0" y="0"/>
            <a:ext cx="9144000" cy="658800"/>
            <a:chOff x="0" y="0"/>
            <a:chExt cx="9144000" cy="658800"/>
          </a:xfrm>
        </p:grpSpPr>
        <p:pic>
          <p:nvPicPr>
            <p:cNvPr id="59" name="Picture 126" descr="logo"/>
            <p:cNvPicPr/>
            <p:nvPr/>
          </p:nvPicPr>
          <p:blipFill>
            <a:blip r:embed="rId2"/>
            <a:stretch/>
          </p:blipFill>
          <p:spPr>
            <a:xfrm>
              <a:off x="1979640" y="0"/>
              <a:ext cx="716436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27" descr="logo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003640" cy="65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42"/>
          <p:cNvSpPr/>
          <p:nvPr/>
        </p:nvSpPr>
        <p:spPr>
          <a:xfrm>
            <a:off x="7164360" y="2637000"/>
            <a:ext cx="1979640" cy="3887640"/>
          </a:xfrm>
          <a:prstGeom prst="rect">
            <a:avLst/>
          </a:prstGeom>
          <a:solidFill>
            <a:srgbClr val="fac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14"/>
          <p:cNvGrpSpPr/>
          <p:nvPr/>
        </p:nvGrpSpPr>
        <p:grpSpPr>
          <a:xfrm>
            <a:off x="1835280" y="6497640"/>
            <a:ext cx="7308720" cy="360360"/>
            <a:chOff x="1835280" y="6497640"/>
            <a:chExt cx="7308720" cy="360360"/>
          </a:xfrm>
        </p:grpSpPr>
        <p:sp>
          <p:nvSpPr>
            <p:cNvPr id="63" name="Rectangle 115"/>
            <p:cNvSpPr/>
            <p:nvPr/>
          </p:nvSpPr>
          <p:spPr>
            <a:xfrm>
              <a:off x="1835280" y="6497640"/>
              <a:ext cx="7308720" cy="3603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6"/>
            <p:cNvSpPr/>
            <p:nvPr/>
          </p:nvSpPr>
          <p:spPr>
            <a:xfrm>
              <a:off x="8997840" y="6497640"/>
              <a:ext cx="142920" cy="360360"/>
            </a:xfrm>
            <a:prstGeom prst="pie">
              <a:avLst/>
            </a:prstGeom>
            <a:solidFill>
              <a:srgbClr val="f3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7"/>
          <p:cNvSpPr/>
          <p:nvPr/>
        </p:nvSpPr>
        <p:spPr>
          <a:xfrm>
            <a:off x="0" y="2708280"/>
            <a:ext cx="1116000" cy="4149720"/>
          </a:xfrm>
          <a:prstGeom prst="rect">
            <a:avLst/>
          </a:prstGeom>
          <a:solidFill>
            <a:srgbClr val="fac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443640" y="6541920"/>
            <a:ext cx="24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esprom.neosystem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2"/>
          <p:cNvGrpSpPr/>
          <p:nvPr/>
        </p:nvGrpSpPr>
        <p:grpSpPr>
          <a:xfrm>
            <a:off x="71280" y="1413000"/>
            <a:ext cx="952560" cy="4459320"/>
            <a:chOff x="71280" y="1413000"/>
            <a:chExt cx="952560" cy="4459320"/>
          </a:xfrm>
        </p:grpSpPr>
        <p:pic>
          <p:nvPicPr>
            <p:cNvPr id="68" name="Picture 13" descr="лесной фонд"/>
            <p:cNvPicPr/>
            <p:nvPr/>
          </p:nvPicPr>
          <p:blipFill>
            <a:blip r:embed="rId4"/>
            <a:stretch/>
          </p:blipFill>
          <p:spPr>
            <a:xfrm>
              <a:off x="71280" y="1413000"/>
              <a:ext cx="952560" cy="714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69" name="Picture 14" descr="лесозаготовка"/>
            <p:cNvPicPr/>
            <p:nvPr/>
          </p:nvPicPr>
          <p:blipFill>
            <a:blip r:embed="rId5"/>
            <a:stretch/>
          </p:blipFill>
          <p:spPr>
            <a:xfrm>
              <a:off x="71280" y="234936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70" name="Picture 15" descr="деревообработка"/>
            <p:cNvPicPr/>
            <p:nvPr/>
          </p:nvPicPr>
          <p:blipFill>
            <a:blip r:embed="rId6"/>
            <a:stretch/>
          </p:blipFill>
          <p:spPr>
            <a:xfrm>
              <a:off x="71280" y="3284640"/>
              <a:ext cx="952560" cy="714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71" name="Picture 16" descr="Бумага"/>
            <p:cNvPicPr/>
            <p:nvPr/>
          </p:nvPicPr>
          <p:blipFill>
            <a:blip r:embed="rId7"/>
            <a:stretch/>
          </p:blipFill>
          <p:spPr>
            <a:xfrm>
              <a:off x="71280" y="515772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72" name="Picture 17" descr="отгрузка продукц"/>
            <p:cNvPicPr/>
            <p:nvPr/>
          </p:nvPicPr>
          <p:blipFill>
            <a:blip r:embed="rId8"/>
            <a:stretch/>
          </p:blipFill>
          <p:spPr>
            <a:xfrm>
              <a:off x="71280" y="4221000"/>
              <a:ext cx="952560" cy="7146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pic>
        <p:nvPicPr>
          <p:cNvPr id="73" name="Picture 18" descr="ISO 9001"/>
          <p:cNvPicPr/>
          <p:nvPr/>
        </p:nvPicPr>
        <p:blipFill>
          <a:blip r:embed="rId9"/>
          <a:stretch/>
        </p:blipFill>
        <p:spPr>
          <a:xfrm>
            <a:off x="0" y="5977080"/>
            <a:ext cx="1857240" cy="88092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118"/>
          <p:cNvGrpSpPr/>
          <p:nvPr/>
        </p:nvGrpSpPr>
        <p:grpSpPr>
          <a:xfrm>
            <a:off x="74520" y="647640"/>
            <a:ext cx="9069480" cy="503280"/>
            <a:chOff x="74520" y="647640"/>
            <a:chExt cx="9069480" cy="503280"/>
          </a:xfrm>
        </p:grpSpPr>
        <p:sp>
          <p:nvSpPr>
            <p:cNvPr id="75" name="Rectangle 119"/>
            <p:cNvSpPr/>
            <p:nvPr/>
          </p:nvSpPr>
          <p:spPr>
            <a:xfrm>
              <a:off x="74520" y="647640"/>
              <a:ext cx="9069480" cy="503280"/>
            </a:xfrm>
            <a:prstGeom prst="rect">
              <a:avLst/>
            </a:prstGeom>
            <a:solidFill>
              <a:srgbClr val="f3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20"/>
            <p:cNvSpPr/>
            <p:nvPr/>
          </p:nvSpPr>
          <p:spPr>
            <a:xfrm>
              <a:off x="74520" y="647640"/>
              <a:ext cx="216000" cy="50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19" descr="бревно"/>
          <p:cNvPicPr/>
          <p:nvPr/>
        </p:nvPicPr>
        <p:blipFill>
          <a:blip r:embed="rId10"/>
          <a:stretch/>
        </p:blipFill>
        <p:spPr>
          <a:xfrm>
            <a:off x="8456760" y="0"/>
            <a:ext cx="687240" cy="20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16000" y="1268280"/>
            <a:ext cx="734364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1"/>
          <p:cNvSpPr/>
          <p:nvPr/>
        </p:nvSpPr>
        <p:spPr>
          <a:xfrm>
            <a:off x="1908000" y="3657600"/>
            <a:ext cx="7236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0080" y="157176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овместное решение «1С» и «Неосистемы Северо-Запад ЛТД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85560" y="2143080"/>
            <a:ext cx="75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С:Лесоза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ля автоматизации лесопромышленного предпри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никальные отрасле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соб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ет плановой себестоимости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71720" y="1213920"/>
            <a:ext cx="75708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низ 4"/>
          <p:cNvSpPr/>
          <p:nvPr/>
        </p:nvSpPr>
        <p:spPr>
          <a:xfrm>
            <a:off x="1071720" y="1500120"/>
            <a:ext cx="396720" cy="43578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357200" y="1500120"/>
            <a:ext cx="1785960" cy="307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ь зак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1357200" y="200016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портфель зак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7"/>
          <p:cNvSpPr/>
          <p:nvPr/>
        </p:nvSpPr>
        <p:spPr>
          <a:xfrm>
            <a:off x="1357200" y="2714760"/>
            <a:ext cx="1785960" cy="73332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читать плановую себесто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1357200" y="364320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тимизировать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1357200" y="435780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ить результат оптим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3"/>
          <p:cNvSpPr/>
          <p:nvPr/>
        </p:nvSpPr>
        <p:spPr>
          <a:xfrm>
            <a:off x="1357200" y="507204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ть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4" descr=""/>
          <p:cNvPicPr/>
          <p:nvPr/>
        </p:nvPicPr>
        <p:blipFill>
          <a:blip r:embed="rId1"/>
          <a:stretch/>
        </p:blipFill>
        <p:spPr>
          <a:xfrm>
            <a:off x="3357720" y="1643040"/>
            <a:ext cx="5530680" cy="26431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2"/>
          <p:cNvSpPr/>
          <p:nvPr/>
        </p:nvSpPr>
        <p:spPr>
          <a:xfrm>
            <a:off x="3643200" y="4714920"/>
            <a:ext cx="50720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Автоматически рассчитывается плановая себестоимость каждой продукции по всем поставам, в которых она является основным или побочным выход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едварительной оценки портфеля заказов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трелка вниз 4"/>
          <p:cNvSpPr/>
          <p:nvPr/>
        </p:nvSpPr>
        <p:spPr>
          <a:xfrm>
            <a:off x="1071720" y="1500120"/>
            <a:ext cx="396720" cy="43578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1357200" y="1500120"/>
            <a:ext cx="1785960" cy="307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ь зак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6"/>
          <p:cNvSpPr/>
          <p:nvPr/>
        </p:nvSpPr>
        <p:spPr>
          <a:xfrm>
            <a:off x="1357200" y="200016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портфель зак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"/>
          <p:cNvSpPr/>
          <p:nvPr/>
        </p:nvSpPr>
        <p:spPr>
          <a:xfrm>
            <a:off x="1357200" y="2714760"/>
            <a:ext cx="1785960" cy="733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читать плановую себесто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8"/>
          <p:cNvSpPr/>
          <p:nvPr/>
        </p:nvSpPr>
        <p:spPr>
          <a:xfrm>
            <a:off x="1357200" y="3643200"/>
            <a:ext cx="1785960" cy="52020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тимизировать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>
            <a:off x="1357200" y="435780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ить результат оптим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3"/>
          <p:cNvSpPr/>
          <p:nvPr/>
        </p:nvSpPr>
        <p:spPr>
          <a:xfrm>
            <a:off x="1357200" y="507204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ть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"/>
          <p:cNvPicPr/>
          <p:nvPr/>
        </p:nvPicPr>
        <p:blipFill>
          <a:blip r:embed="rId1"/>
          <a:stretch/>
        </p:blipFill>
        <p:spPr>
          <a:xfrm>
            <a:off x="3286080" y="1571760"/>
            <a:ext cx="5629320" cy="35002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1"/>
          <p:cNvSpPr/>
          <p:nvPr/>
        </p:nvSpPr>
        <p:spPr>
          <a:xfrm>
            <a:off x="3857760" y="5214960"/>
            <a:ext cx="5143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Автоматически решается оптимизационная задача определения такого набора поставов для производства заказанной продукции, чтобы общая себестоимость портфеля была минималь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изация производства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трелка вниз 4"/>
          <p:cNvSpPr/>
          <p:nvPr/>
        </p:nvSpPr>
        <p:spPr>
          <a:xfrm>
            <a:off x="1071720" y="1500120"/>
            <a:ext cx="396720" cy="43578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1357200" y="1500120"/>
            <a:ext cx="1785960" cy="307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ь зак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6"/>
          <p:cNvSpPr/>
          <p:nvPr/>
        </p:nvSpPr>
        <p:spPr>
          <a:xfrm>
            <a:off x="1357200" y="200016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портфель зак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7"/>
          <p:cNvSpPr/>
          <p:nvPr/>
        </p:nvSpPr>
        <p:spPr>
          <a:xfrm>
            <a:off x="1357200" y="2714760"/>
            <a:ext cx="1785960" cy="733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читать плановую себесто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8"/>
          <p:cNvSpPr/>
          <p:nvPr/>
        </p:nvSpPr>
        <p:spPr>
          <a:xfrm>
            <a:off x="1357200" y="3643200"/>
            <a:ext cx="1785960" cy="52020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тимизировать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9"/>
          <p:cNvSpPr/>
          <p:nvPr/>
        </p:nvSpPr>
        <p:spPr>
          <a:xfrm>
            <a:off x="1357200" y="435780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ить результат оптим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3"/>
          <p:cNvSpPr/>
          <p:nvPr/>
        </p:nvSpPr>
        <p:spPr>
          <a:xfrm>
            <a:off x="1357200" y="507204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ть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5" descr=""/>
          <p:cNvPicPr/>
          <p:nvPr/>
        </p:nvPicPr>
        <p:blipFill>
          <a:blip r:embed="rId1"/>
          <a:stretch/>
        </p:blipFill>
        <p:spPr>
          <a:xfrm>
            <a:off x="3286080" y="1285920"/>
            <a:ext cx="5318280" cy="32875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2"/>
          <p:cNvSpPr/>
          <p:nvPr/>
        </p:nvSpPr>
        <p:spPr>
          <a:xfrm>
            <a:off x="3286080" y="4929120"/>
            <a:ext cx="585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Указывается коэффици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максимального излишнего производства продукции. Больший коэффициент допустимого излишнего производства позволяет найти решение с меньшей себестоимость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3286080" y="5857920"/>
            <a:ext cx="542916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Коэффициенты могут заполняться по данным фактических продаж для обеспечения гарантированного сбыта излишне произведенной проду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ая прямоугольная выноска 15"/>
          <p:cNvSpPr/>
          <p:nvPr/>
        </p:nvSpPr>
        <p:spPr>
          <a:xfrm>
            <a:off x="6397560" y="3475080"/>
            <a:ext cx="2746440" cy="1596960"/>
          </a:xfrm>
          <a:prstGeom prst="wedgeRoundRectCallout">
            <a:avLst>
              <a:gd name="adj1" fmla="val 21287"/>
              <a:gd name="adj2" fmla="val -81388"/>
              <a:gd name="adj3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2"/>
          <a:stretch/>
        </p:blipFill>
        <p:spPr>
          <a:xfrm>
            <a:off x="6469200" y="3546360"/>
            <a:ext cx="24858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изация производства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трелка вниз 4"/>
          <p:cNvSpPr/>
          <p:nvPr/>
        </p:nvSpPr>
        <p:spPr>
          <a:xfrm>
            <a:off x="1071720" y="1500120"/>
            <a:ext cx="396720" cy="43578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1357200" y="1500120"/>
            <a:ext cx="1785960" cy="307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ь зак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6"/>
          <p:cNvSpPr/>
          <p:nvPr/>
        </p:nvSpPr>
        <p:spPr>
          <a:xfrm>
            <a:off x="1357200" y="200016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портфель зак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357200" y="2714760"/>
            <a:ext cx="1785960" cy="733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читать плановую себесто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1357200" y="3643200"/>
            <a:ext cx="1785960" cy="52020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тимизировать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1357200" y="435780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ить результат оптим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3"/>
          <p:cNvSpPr/>
          <p:nvPr/>
        </p:nvSpPr>
        <p:spPr>
          <a:xfrm>
            <a:off x="1357200" y="507204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ть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"/>
          <p:cNvPicPr/>
          <p:nvPr/>
        </p:nvPicPr>
        <p:blipFill>
          <a:blip r:embed="rId1"/>
          <a:stretch/>
        </p:blipFill>
        <p:spPr>
          <a:xfrm>
            <a:off x="3500280" y="1571760"/>
            <a:ext cx="5170680" cy="3214440"/>
          </a:xfrm>
          <a:prstGeom prst="rect">
            <a:avLst/>
          </a:prstGeom>
          <a:ln w="0">
            <a:noFill/>
          </a:ln>
        </p:spPr>
      </p:pic>
      <p:sp>
        <p:nvSpPr>
          <p:cNvPr id="212" name="Скругленная прямоугольная выноска 18"/>
          <p:cNvSpPr/>
          <p:nvPr/>
        </p:nvSpPr>
        <p:spPr>
          <a:xfrm>
            <a:off x="3857760" y="3357720"/>
            <a:ext cx="2786040" cy="1861920"/>
          </a:xfrm>
          <a:prstGeom prst="wedgeRoundRectCallout">
            <a:avLst>
              <a:gd name="adj1" fmla="val 73462"/>
              <a:gd name="adj2" fmla="val -8129"/>
              <a:gd name="adj3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2"/>
          <p:cNvSpPr/>
          <p:nvPr/>
        </p:nvSpPr>
        <p:spPr>
          <a:xfrm>
            <a:off x="3643200" y="5286240"/>
            <a:ext cx="507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При поиске способа производства заказанной продукции с наименьшей себестоимостью, система ориентируется на фактические и ожидаемые остатки сырья на предприя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"/>
          <p:cNvPicPr/>
          <p:nvPr/>
        </p:nvPicPr>
        <p:blipFill>
          <a:blip r:embed="rId2"/>
          <a:stretch/>
        </p:blipFill>
        <p:spPr>
          <a:xfrm>
            <a:off x="3929040" y="3571920"/>
            <a:ext cx="2638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результатов оптимизации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43000" y="1214280"/>
            <a:ext cx="75708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низ 4"/>
          <p:cNvSpPr/>
          <p:nvPr/>
        </p:nvSpPr>
        <p:spPr>
          <a:xfrm>
            <a:off x="1071720" y="1500120"/>
            <a:ext cx="396720" cy="43578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1357200" y="1500120"/>
            <a:ext cx="1785960" cy="307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ь зак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1357200" y="200016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портфель зак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1357200" y="2714760"/>
            <a:ext cx="1785960" cy="733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читать плановую себесто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1357200" y="364320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тимизировать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9"/>
          <p:cNvSpPr/>
          <p:nvPr/>
        </p:nvSpPr>
        <p:spPr>
          <a:xfrm>
            <a:off x="1357200" y="4357800"/>
            <a:ext cx="1785960" cy="52020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ить результат оптим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3"/>
          <p:cNvSpPr/>
          <p:nvPr/>
        </p:nvSpPr>
        <p:spPr>
          <a:xfrm>
            <a:off x="1357200" y="507204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ть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4" descr=""/>
          <p:cNvPicPr/>
          <p:nvPr/>
        </p:nvPicPr>
        <p:blipFill>
          <a:blip r:embed="rId1"/>
          <a:stretch/>
        </p:blipFill>
        <p:spPr>
          <a:xfrm>
            <a:off x="3500280" y="1500120"/>
            <a:ext cx="5369040" cy="3429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1"/>
          <p:cNvSpPr/>
          <p:nvPr/>
        </p:nvSpPr>
        <p:spPr>
          <a:xfrm>
            <a:off x="3571920" y="5072040"/>
            <a:ext cx="515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Автоматически определяются необходимые остатки сырья для производства продукции, основной и побочный выпуск продукции, выпуск отходов, рассчитывается рентабельность рассматриваемого портфеля зака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ча в производство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трелка вниз 4"/>
          <p:cNvSpPr/>
          <p:nvPr/>
        </p:nvSpPr>
        <p:spPr>
          <a:xfrm>
            <a:off x="1071720" y="1500120"/>
            <a:ext cx="396720" cy="43578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1357200" y="1500120"/>
            <a:ext cx="1785960" cy="307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ь зак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1357200" y="200016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портфель зак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1357200" y="2714760"/>
            <a:ext cx="1785960" cy="733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читать плановую себесто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8"/>
          <p:cNvSpPr/>
          <p:nvPr/>
        </p:nvSpPr>
        <p:spPr>
          <a:xfrm>
            <a:off x="1357200" y="364320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тимизировать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9"/>
          <p:cNvSpPr/>
          <p:nvPr/>
        </p:nvSpPr>
        <p:spPr>
          <a:xfrm>
            <a:off x="1357200" y="435780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ить результат оптим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3"/>
          <p:cNvSpPr/>
          <p:nvPr/>
        </p:nvSpPr>
        <p:spPr>
          <a:xfrm>
            <a:off x="1357200" y="5072040"/>
            <a:ext cx="1785960" cy="52020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ть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3643200" y="4643280"/>
            <a:ext cx="5357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По результатам анализа создается заказ на производ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Фиксируются поставы по которым необходимо производить продукцию. Еще не выпущенная, но запланированная к выпуску продукция резервируется под рассматриваемый портфель заказ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4" descr=""/>
          <p:cNvPicPr/>
          <p:nvPr/>
        </p:nvPicPr>
        <p:blipFill>
          <a:blip r:embed="rId1"/>
          <a:stretch/>
        </p:blipFill>
        <p:spPr>
          <a:xfrm>
            <a:off x="3357720" y="1498680"/>
            <a:ext cx="548640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28800" y="64296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информационной мод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73200" y="1714320"/>
            <a:ext cx="7570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18"/>
          <p:cNvSpPr/>
          <p:nvPr/>
        </p:nvSpPr>
        <p:spPr>
          <a:xfrm>
            <a:off x="1671480" y="2286000"/>
            <a:ext cx="150048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азы покуп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19"/>
          <p:cNvSpPr/>
          <p:nvPr/>
        </p:nvSpPr>
        <p:spPr>
          <a:xfrm>
            <a:off x="6672240" y="2286000"/>
            <a:ext cx="15001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азы в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20"/>
          <p:cNvSpPr/>
          <p:nvPr/>
        </p:nvSpPr>
        <p:spPr>
          <a:xfrm>
            <a:off x="2671920" y="4286160"/>
            <a:ext cx="15001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ецификации произво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21"/>
          <p:cNvSpPr/>
          <p:nvPr/>
        </p:nvSpPr>
        <p:spPr>
          <a:xfrm>
            <a:off x="4243320" y="4286160"/>
            <a:ext cx="15001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тические остатки сы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22"/>
          <p:cNvSpPr/>
          <p:nvPr/>
        </p:nvSpPr>
        <p:spPr>
          <a:xfrm>
            <a:off x="5815080" y="4286160"/>
            <a:ext cx="15001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 закупки сы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16"/>
          <p:cNvSpPr/>
          <p:nvPr/>
        </p:nvSpPr>
        <p:spPr>
          <a:xfrm>
            <a:off x="2671920" y="3135240"/>
            <a:ext cx="4643280" cy="576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чет себестоимости – оптимизация производства – оценка параметров портф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трелка вниз 24"/>
          <p:cNvSpPr/>
          <p:nvPr/>
        </p:nvSpPr>
        <p:spPr>
          <a:xfrm>
            <a:off x="2600280" y="2786040"/>
            <a:ext cx="357120" cy="4888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26"/>
          <p:cNvSpPr/>
          <p:nvPr/>
        </p:nvSpPr>
        <p:spPr>
          <a:xfrm rot="10800000">
            <a:off x="4815000" y="3797280"/>
            <a:ext cx="357120" cy="4888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27"/>
          <p:cNvSpPr/>
          <p:nvPr/>
        </p:nvSpPr>
        <p:spPr>
          <a:xfrm rot="10800000">
            <a:off x="6386040" y="3797280"/>
            <a:ext cx="357480" cy="48888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28"/>
          <p:cNvSpPr/>
          <p:nvPr/>
        </p:nvSpPr>
        <p:spPr>
          <a:xfrm rot="10800000">
            <a:off x="7029360" y="2786040"/>
            <a:ext cx="357120" cy="4888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Соединительная линия уступом 15"/>
          <p:cNvCxnSpPr>
            <a:stCxn id="239" idx="3"/>
            <a:endCxn id="240" idx="1"/>
          </p:cNvCxnSpPr>
          <p:nvPr/>
        </p:nvCxnSpPr>
        <p:spPr>
          <a:xfrm>
            <a:off x="3171600" y="2575080"/>
            <a:ext cx="3501000" cy="2160"/>
          </a:xfrm>
          <a:prstGeom prst="bentConnector3">
            <a:avLst>
              <a:gd name="adj1" fmla="val 50000"/>
            </a:avLst>
          </a:prstGeom>
          <a:ln w="2232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0" name="Скругленный прямоугольник 29"/>
          <p:cNvSpPr/>
          <p:nvPr/>
        </p:nvSpPr>
        <p:spPr>
          <a:xfrm>
            <a:off x="4243320" y="1357200"/>
            <a:ext cx="1500120" cy="81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бодные остатки прод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Соединительная линия уступом 30"/>
          <p:cNvCxnSpPr>
            <a:stCxn id="239" idx="0"/>
            <a:endCxn id="250" idx="1"/>
          </p:cNvCxnSpPr>
          <p:nvPr/>
        </p:nvCxnSpPr>
        <p:spPr>
          <a:xfrm flipH="1" flipV="1" rot="5400000">
            <a:off x="3072240" y="1114920"/>
            <a:ext cx="521280" cy="1821600"/>
          </a:xfrm>
          <a:prstGeom prst="bentConnector2">
            <a:avLst/>
          </a:prstGeom>
          <a:ln w="2232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52" name="TextBox 31"/>
          <p:cNvSpPr/>
          <p:nvPr/>
        </p:nvSpPr>
        <p:spPr>
          <a:xfrm>
            <a:off x="2464560" y="1714680"/>
            <a:ext cx="124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езервир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3"/>
          <p:cNvSpPr/>
          <p:nvPr/>
        </p:nvSpPr>
        <p:spPr>
          <a:xfrm>
            <a:off x="4344120" y="2523960"/>
            <a:ext cx="124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езервир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34"/>
          <p:cNvSpPr/>
          <p:nvPr/>
        </p:nvSpPr>
        <p:spPr>
          <a:xfrm>
            <a:off x="3171960" y="4992840"/>
            <a:ext cx="1714320" cy="81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35"/>
          <p:cNvSpPr/>
          <p:nvPr/>
        </p:nvSpPr>
        <p:spPr>
          <a:xfrm>
            <a:off x="4957920" y="5000760"/>
            <a:ext cx="1714320" cy="81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овые несырьевые затраты выпу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трелка вниз 36"/>
          <p:cNvSpPr/>
          <p:nvPr/>
        </p:nvSpPr>
        <p:spPr>
          <a:xfrm rot="10800000">
            <a:off x="3243240" y="3786120"/>
            <a:ext cx="357120" cy="4888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ая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43000" y="1213920"/>
            <a:ext cx="75708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Рабочее место цех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лесопи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24000" y="692280"/>
            <a:ext cx="815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системы Северо-Запад ЛТ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143000" y="1428840"/>
            <a:ext cx="6119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Оптимизация бизнес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оцессов предприятия путем создания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втоматизированной Системы Управления Предприятием.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олный набор услуг от бизнес-консалтинга до автоматизации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Многолетний (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более 20 лет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) партнер фирмы «1С» по направлениям «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1С:Франчайзинг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», «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1С:Консалтинг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», имеет стату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Центр компетенции по производств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Центр компетенции по бюджетному учет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Microsoft Gold Certified Partner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ESET Premier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Система управления качеством компании сертифицирована на соответствие стандарту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ISO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9001.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В 2010 г. успешно пройден ресертификационный аудит на соответствие стандарту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ISO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9001:2008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9"/>
          <p:cNvSpPr/>
          <p:nvPr/>
        </p:nvSpPr>
        <p:spPr>
          <a:xfrm>
            <a:off x="1979640" y="115920"/>
            <a:ext cx="65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7800"/>
                </a:solidFill>
                <a:latin typeface="Arial"/>
              </a:rPr>
              <a:t>О КОМП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"/>
          <p:cNvPicPr/>
          <p:nvPr/>
        </p:nvPicPr>
        <p:blipFill>
          <a:blip r:embed="rId1"/>
          <a:stretch/>
        </p:blipFill>
        <p:spPr>
          <a:xfrm>
            <a:off x="3851280" y="5734080"/>
            <a:ext cx="1428840" cy="714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"/>
          <p:cNvPicPr/>
          <p:nvPr/>
        </p:nvPicPr>
        <p:blipFill>
          <a:blip r:embed="rId2"/>
          <a:stretch/>
        </p:blipFill>
        <p:spPr>
          <a:xfrm>
            <a:off x="7380360" y="4221000"/>
            <a:ext cx="1630440" cy="78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"/>
          <p:cNvPicPr/>
          <p:nvPr/>
        </p:nvPicPr>
        <p:blipFill>
          <a:blip r:embed="rId3"/>
          <a:stretch/>
        </p:blipFill>
        <p:spPr>
          <a:xfrm>
            <a:off x="7380360" y="3213000"/>
            <a:ext cx="1614240" cy="768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Эксперт"/>
          <p:cNvPicPr/>
          <p:nvPr/>
        </p:nvPicPr>
        <p:blipFill>
          <a:blip r:embed="rId4"/>
          <a:stretch/>
        </p:blipFill>
        <p:spPr>
          <a:xfrm>
            <a:off x="7164360" y="2565360"/>
            <a:ext cx="1979640" cy="41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1" descr="ИТС"/>
          <p:cNvPicPr/>
          <p:nvPr/>
        </p:nvPicPr>
        <p:blipFill>
          <a:blip r:embed="rId5"/>
          <a:stretch/>
        </p:blipFill>
        <p:spPr>
          <a:xfrm>
            <a:off x="7667640" y="5229360"/>
            <a:ext cx="925560" cy="118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2" descr="консалтинг"/>
          <p:cNvPicPr/>
          <p:nvPr/>
        </p:nvPicPr>
        <p:blipFill>
          <a:blip r:embed="rId6"/>
          <a:stretch/>
        </p:blipFill>
        <p:spPr>
          <a:xfrm>
            <a:off x="7308720" y="1484280"/>
            <a:ext cx="1440000" cy="8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3" descr="микрософт"/>
          <p:cNvPicPr/>
          <p:nvPr/>
        </p:nvPicPr>
        <p:blipFill>
          <a:blip r:embed="rId7"/>
          <a:stretch/>
        </p:blipFill>
        <p:spPr>
          <a:xfrm>
            <a:off x="5508720" y="5661000"/>
            <a:ext cx="1425600" cy="8082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ESET Corporate Premier Partner.jpg"/>
          <p:cNvPicPr/>
          <p:nvPr/>
        </p:nvPicPr>
        <p:blipFill>
          <a:blip r:embed="rId8"/>
          <a:stretch/>
        </p:blipFill>
        <p:spPr>
          <a:xfrm>
            <a:off x="2143080" y="5715000"/>
            <a:ext cx="14288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нденции рынка и развитие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71720" y="1499760"/>
            <a:ext cx="75708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993300"/>
                </a:solidFill>
                <a:latin typeface="Arial"/>
              </a:rPr>
              <a:t>До сентября 2008 года</a:t>
            </a: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 на многих отраслевых рынках наблюдался процесс активной консолидации активов и создания вертикально-интегрированных холдингов, поэтому акценты смещались в сторону управления финансами предприятий и контроля оперативной деятельности предприят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400" spc="-1" strike="noStrike" u="sng">
                <a:solidFill>
                  <a:srgbClr val="993300"/>
                </a:solidFill>
                <a:uFillTx/>
                <a:latin typeface="Arial"/>
              </a:rPr>
              <a:t>В связи с эти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Разработчики решений (в т.ч. "1С:Лесозавод 8") решали в первую очередь задачи оперативного учета в своих решениях, организации ведения бухгалтерского и налогового учета, бюджет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Для управления финансами холдингов использовались специализированные программные продукты (например, "1С:Консолидация", "1С:Управление корпоративными финансами"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993300"/>
                </a:solidFill>
                <a:latin typeface="Arial"/>
              </a:rPr>
              <a:t>До сентября 2008 года </a:t>
            </a: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рынок можно описать к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Устойчив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Рынок борьбы цены и ка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Портфель заказов предприятий складывался из долгосрочных контрактов с устойчивым ассортиментом и ценой и соответствовал </a:t>
            </a: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технологическим возможностям предприя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нденции рынка и развитие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993300"/>
                </a:solidFill>
                <a:latin typeface="Arial"/>
              </a:rPr>
              <a:t>С осени 2008 </a:t>
            </a: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года рынок можно описать как рынок "покупателя"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Неустойчив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Рынок "цены".</a:t>
            </a: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Портфель заказов предприятий складывается из краткосрочных контрактов с разнообразным ассортиментом и низкой це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В связи с этим, сами предприятия и управляющие компании холдингов сместили акценты в сторону оптимизации производства и процессов снабжения, производства, сбы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993300"/>
                </a:solidFill>
                <a:latin typeface="Arial"/>
              </a:rPr>
              <a:t>Обострились пробле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Взаимодействия сбытовых структур и технологов предприятий для оперативной оценки рентабельности потенциальных заказов и соответствие их технологическим возможностям предприя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Оперативного анализа деятельности предприя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Оперативного управления скаладами готовой прокукции для уменьшения количества рекламаций, пересортицы, низкой оборачиваем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Оперативного планирования деятельности предприятия из-за уменьшения объемов заказов и увеличения их коли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С:Лесозавод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57160" y="128592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Как и у большинства отраслевых продуктов фирмы "1С" в "1С:Лесозавод 8" реализован подробный отраслевой учет от сырья до отгрузки готовой проду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В текущей ситуации, адекватным является развитие продукта в сторону решения оптимизационных задач связанных с логистикой, планированием производства, оценки заказов, анализа технологических переде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С:Лесозавод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аправления развития, адекватные текущей ситу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Arial"/>
              </a:rPr>
              <a:t>Предварительная оценка производственных и экономических характеристик заказов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Реализовано рабочее место по оценке характеристик заказов, оценке рентабельности портфеля и определения оптимальной производственной программы для выпол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Планируется развивать математическую мо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Планируется интеграция с конструктором поставов для более тесной интеграции технологов пред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Arial"/>
              </a:rPr>
              <a:t>Рабочие места мастеров цех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Реализовано рабочее место мастера цеха лесопи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buClr>
                <a:srgbClr val="99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Учитываются сменные задания на пиление, подачу сырья в цех, факт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buClr>
                <a:srgbClr val="99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Реализован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план-фактный</a:t>
            </a: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ормативно-факт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Планируются к реализации рабочие места приемки, сортировки, сушки, цех строжки и профилирования, склада полуфабрикатов и готовой проду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Arial"/>
              </a:rPr>
              <a:t>Оперативная диспетчер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Планируется к реализации рабочее место технолога производства (или диспетчера отдела подготовки производства) как основной рабочий инструмент по оперативному планированию работы подразделений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Arial"/>
              </a:rPr>
              <a:t>Анализ лесообесп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Планируется добавление возможности оформлять заказы поставщикам по группам диаметров с последующим анализом фактического исполнения этих зака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Arial"/>
              </a:rPr>
              <a:t>Конструктор поставов (специфик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Визуальный инструмент создания новых поставов исходя из потребностей производства и одновременный расчет плановой себестоимости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С:Лесозавод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Процесс предварительной оценки производственных и экономических параметров портфеля зак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052"/>
          <p:cNvSpPr/>
          <p:nvPr/>
        </p:nvSpPr>
        <p:spPr>
          <a:xfrm>
            <a:off x="1285920" y="3286080"/>
            <a:ext cx="7289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 офи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«Неосистемы Северо-Запад ЛТ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85035  Республика Каре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Петрозаводск, ул. Кирова, д.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с (814-2) 67-21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: promo@neosystems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pr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neosystems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55"/>
          <p:cNvSpPr/>
          <p:nvPr/>
        </p:nvSpPr>
        <p:spPr>
          <a:xfrm>
            <a:off x="1116000" y="1357200"/>
            <a:ext cx="782316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лагодарим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Times New Roman"/>
              </a:rPr>
              <a:t>Будем рады ответить на Ваши вопросы и предоставить любую дополнительную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056"/>
          <p:cNvSpPr/>
          <p:nvPr/>
        </p:nvSpPr>
        <p:spPr>
          <a:xfrm>
            <a:off x="1979640" y="115920"/>
            <a:ext cx="65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7800"/>
                </a:solidFill>
                <a:latin typeface="Arial"/>
              </a:rPr>
              <a:t>КОНТАКТНАЯ ИНФО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м за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низ 4"/>
          <p:cNvSpPr/>
          <p:nvPr/>
        </p:nvSpPr>
        <p:spPr>
          <a:xfrm>
            <a:off x="1071720" y="1500120"/>
            <a:ext cx="396720" cy="43578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1357200" y="1500120"/>
            <a:ext cx="1785960" cy="3070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ь зак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357200" y="200016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портфель зак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1357200" y="2714760"/>
            <a:ext cx="1785960" cy="733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читать плановую себесто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1357200" y="364320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тимизировать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1357200" y="435780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ить результат оптим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3857760" y="4429080"/>
            <a:ext cx="4572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Регистрируется заказ покуп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Автоматически резервируются свободные (не зарезервированные) остатки продукции на складах под текущий зак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Автоматически резервируется еще не выпущенная и не зарезервированная продукция по заказам на производство (побочный выпуск других заказов или работа на скла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3"/>
          <p:cNvSpPr/>
          <p:nvPr/>
        </p:nvSpPr>
        <p:spPr>
          <a:xfrm>
            <a:off x="1357200" y="507204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ть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643040" y="0"/>
            <a:ext cx="7143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 зака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6" descr=""/>
          <p:cNvPicPr/>
          <p:nvPr/>
        </p:nvPicPr>
        <p:blipFill>
          <a:blip r:embed="rId1"/>
          <a:stretch/>
        </p:blipFill>
        <p:spPr>
          <a:xfrm>
            <a:off x="3286080" y="1357200"/>
            <a:ext cx="5661000" cy="2643480"/>
          </a:xfrm>
          <a:prstGeom prst="rect">
            <a:avLst/>
          </a:prstGeom>
          <a:ln w="0">
            <a:noFill/>
          </a:ln>
        </p:spPr>
      </p:pic>
      <p:sp>
        <p:nvSpPr>
          <p:cNvPr id="151" name="Скругленная прямоугольная выноска 13"/>
          <p:cNvSpPr/>
          <p:nvPr/>
        </p:nvSpPr>
        <p:spPr>
          <a:xfrm>
            <a:off x="6858000" y="3286080"/>
            <a:ext cx="2143080" cy="1286280"/>
          </a:xfrm>
          <a:prstGeom prst="wedgeRoundRectCallout">
            <a:avLst>
              <a:gd name="adj1" fmla="val 30212"/>
              <a:gd name="adj2" fmla="val -58504"/>
              <a:gd name="adj3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2"/>
          <a:stretch/>
        </p:blipFill>
        <p:spPr>
          <a:xfrm>
            <a:off x="6929280" y="3571920"/>
            <a:ext cx="193860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97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портфеля заказов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3643200" y="5072040"/>
            <a:ext cx="500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Arial"/>
              </a:rPr>
              <a:t>Портфель заказов автоматически заполняется данными по еще не принятым в производство заказам покупате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6" descr=""/>
          <p:cNvPicPr/>
          <p:nvPr/>
        </p:nvPicPr>
        <p:blipFill>
          <a:blip r:embed="rId1"/>
          <a:stretch/>
        </p:blipFill>
        <p:spPr>
          <a:xfrm>
            <a:off x="3314880" y="1285920"/>
            <a:ext cx="5614920" cy="2614680"/>
          </a:xfrm>
          <a:prstGeom prst="rect">
            <a:avLst/>
          </a:prstGeom>
          <a:ln w="0">
            <a:noFill/>
          </a:ln>
        </p:spPr>
      </p:pic>
      <p:sp>
        <p:nvSpPr>
          <p:cNvPr id="157" name="Скругленная прямоугольная выноска 12"/>
          <p:cNvSpPr/>
          <p:nvPr/>
        </p:nvSpPr>
        <p:spPr>
          <a:xfrm>
            <a:off x="5429160" y="3143160"/>
            <a:ext cx="3500640" cy="1582200"/>
          </a:xfrm>
          <a:prstGeom prst="wedgeRoundRectCallout">
            <a:avLst>
              <a:gd name="adj1" fmla="val 30222"/>
              <a:gd name="adj2" fmla="val -58527"/>
              <a:gd name="adj3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7" descr=""/>
          <p:cNvPicPr/>
          <p:nvPr/>
        </p:nvPicPr>
        <p:blipFill>
          <a:blip r:embed="rId2"/>
          <a:stretch/>
        </p:blipFill>
        <p:spPr>
          <a:xfrm>
            <a:off x="5857920" y="3214800"/>
            <a:ext cx="2690640" cy="158904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низ 4"/>
          <p:cNvSpPr/>
          <p:nvPr/>
        </p:nvSpPr>
        <p:spPr>
          <a:xfrm>
            <a:off x="1071720" y="1500120"/>
            <a:ext cx="396720" cy="43578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2"/>
          <p:cNvSpPr/>
          <p:nvPr/>
        </p:nvSpPr>
        <p:spPr>
          <a:xfrm>
            <a:off x="1357200" y="1500120"/>
            <a:ext cx="1785960" cy="307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ять зак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1357200" y="2000160"/>
            <a:ext cx="1785960" cy="52020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ь портфель зак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1357200" y="2714760"/>
            <a:ext cx="1785960" cy="733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читать плановую себесто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1357200" y="364320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тимизировать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1357200" y="435780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ить результат оптим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3"/>
          <p:cNvSpPr/>
          <p:nvPr/>
        </p:nvSpPr>
        <p:spPr>
          <a:xfrm>
            <a:off x="1357200" y="5072040"/>
            <a:ext cx="1785960" cy="52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ть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8:12:18Z</dcterms:created>
  <dc:creator>vaYs</dc:creator>
  <dc:description/>
  <dc:language>en-US</dc:language>
  <cp:lastModifiedBy>Yulia.Boltushkina</cp:lastModifiedBy>
  <dcterms:modified xsi:type="dcterms:W3CDTF">2011-04-13T14:00:21Z</dcterms:modified>
  <cp:revision>52</cp:revision>
  <dc:subject/>
  <dc:title>Слайд 1</dc:title>
</cp:coreProperties>
</file>