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4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png" ContentType="image/png"/>
  <Override PartName="/ppt/media/image36.png" ContentType="image/png"/>
  <Override PartName="/ppt/media/image42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5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32.png" ContentType="image/png"/>
  <Override PartName="/ppt/media/image31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8.png" ContentType="image/pn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0640"/>
            <a:ext cx="1116000" cy="2087640"/>
          </a:xfrm>
          <a:prstGeom prst="rect">
            <a:avLst/>
          </a:prstGeom>
          <a:gradFill rotWithShape="0">
            <a:gsLst>
              <a:gs pos="0">
                <a:srgbClr val="fbefc5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2"/>
          <p:cNvGrpSpPr/>
          <p:nvPr/>
        </p:nvGrpSpPr>
        <p:grpSpPr>
          <a:xfrm>
            <a:off x="0" y="0"/>
            <a:ext cx="9144000" cy="658800"/>
            <a:chOff x="0" y="0"/>
            <a:chExt cx="9144000" cy="658800"/>
          </a:xfrm>
        </p:grpSpPr>
        <p:pic>
          <p:nvPicPr>
            <p:cNvPr id="2" name="Picture 31" descr="logo"/>
            <p:cNvPicPr/>
            <p:nvPr/>
          </p:nvPicPr>
          <p:blipFill>
            <a:blip r:embed="rId2"/>
            <a:stretch/>
          </p:blipFill>
          <p:spPr>
            <a:xfrm>
              <a:off x="1979640" y="0"/>
              <a:ext cx="716436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9" descr="logo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0364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8"/>
          <p:cNvGrpSpPr/>
          <p:nvPr/>
        </p:nvGrpSpPr>
        <p:grpSpPr>
          <a:xfrm>
            <a:off x="1835280" y="6497640"/>
            <a:ext cx="7308720" cy="360360"/>
            <a:chOff x="1835280" y="6497640"/>
            <a:chExt cx="7308720" cy="360360"/>
          </a:xfrm>
        </p:grpSpPr>
        <p:sp>
          <p:nvSpPr>
            <p:cNvPr id="5" name="Rectangle 11"/>
            <p:cNvSpPr/>
            <p:nvPr/>
          </p:nvSpPr>
          <p:spPr>
            <a:xfrm>
              <a:off x="1835280" y="6497640"/>
              <a:ext cx="7308720" cy="360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997840" y="6497640"/>
              <a:ext cx="142920" cy="360360"/>
            </a:xfrm>
            <a:prstGeom prst="pie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2708280"/>
            <a:ext cx="1116000" cy="414972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1"/>
          <p:cNvSpPr/>
          <p:nvPr/>
        </p:nvSpPr>
        <p:spPr>
          <a:xfrm>
            <a:off x="6443640" y="6541920"/>
            <a:ext cx="24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esprom.neo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7"/>
          <p:cNvGrpSpPr/>
          <p:nvPr/>
        </p:nvGrpSpPr>
        <p:grpSpPr>
          <a:xfrm>
            <a:off x="74520" y="647640"/>
            <a:ext cx="9069480" cy="503280"/>
            <a:chOff x="74520" y="647640"/>
            <a:chExt cx="9069480" cy="503280"/>
          </a:xfrm>
        </p:grpSpPr>
        <p:sp>
          <p:nvSpPr>
            <p:cNvPr id="10" name="Rectangle 18"/>
            <p:cNvSpPr/>
            <p:nvPr/>
          </p:nvSpPr>
          <p:spPr>
            <a:xfrm>
              <a:off x="74520" y="647640"/>
              <a:ext cx="9069480" cy="503280"/>
            </a:xfrm>
            <a:prstGeom prst="rect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74520" y="647640"/>
              <a:ext cx="216000" cy="5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20"/>
          <p:cNvGrpSpPr/>
          <p:nvPr/>
        </p:nvGrpSpPr>
        <p:grpSpPr>
          <a:xfrm>
            <a:off x="71280" y="1413000"/>
            <a:ext cx="952560" cy="4459320"/>
            <a:chOff x="71280" y="1413000"/>
            <a:chExt cx="952560" cy="4459320"/>
          </a:xfrm>
        </p:grpSpPr>
        <p:pic>
          <p:nvPicPr>
            <p:cNvPr id="13" name="Picture 21" descr="лесной фонд"/>
            <p:cNvPicPr/>
            <p:nvPr/>
          </p:nvPicPr>
          <p:blipFill>
            <a:blip r:embed="rId4"/>
            <a:stretch/>
          </p:blipFill>
          <p:spPr>
            <a:xfrm>
              <a:off x="71280" y="141300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4" name="Picture 22" descr="лесозаготовка"/>
            <p:cNvPicPr/>
            <p:nvPr/>
          </p:nvPicPr>
          <p:blipFill>
            <a:blip r:embed="rId5"/>
            <a:stretch/>
          </p:blipFill>
          <p:spPr>
            <a:xfrm>
              <a:off x="71280" y="234936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" name="Picture 23" descr="деревообработка"/>
            <p:cNvPicPr/>
            <p:nvPr/>
          </p:nvPicPr>
          <p:blipFill>
            <a:blip r:embed="rId6"/>
            <a:stretch/>
          </p:blipFill>
          <p:spPr>
            <a:xfrm>
              <a:off x="71280" y="328464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6" name="Picture 24" descr="Бумага"/>
            <p:cNvPicPr/>
            <p:nvPr/>
          </p:nvPicPr>
          <p:blipFill>
            <a:blip r:embed="rId7"/>
            <a:stretch/>
          </p:blipFill>
          <p:spPr>
            <a:xfrm>
              <a:off x="71280" y="515772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" name="Picture 25" descr="отгрузка продукц"/>
            <p:cNvPicPr/>
            <p:nvPr/>
          </p:nvPicPr>
          <p:blipFill>
            <a:blip r:embed="rId8"/>
            <a:stretch/>
          </p:blipFill>
          <p:spPr>
            <a:xfrm>
              <a:off x="71280" y="422100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18" name="Picture 26" descr="ISO 9001"/>
          <p:cNvPicPr/>
          <p:nvPr/>
        </p:nvPicPr>
        <p:blipFill>
          <a:blip r:embed="rId9"/>
          <a:stretch/>
        </p:blipFill>
        <p:spPr>
          <a:xfrm>
            <a:off x="0" y="5977080"/>
            <a:ext cx="1857240" cy="8809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7" descr="бревно"/>
          <p:cNvPicPr/>
          <p:nvPr/>
        </p:nvPicPr>
        <p:blipFill>
          <a:blip r:embed="rId10"/>
          <a:stretch/>
        </p:blipFill>
        <p:spPr>
          <a:xfrm>
            <a:off x="8456760" y="0"/>
            <a:ext cx="687240" cy="20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1"/>
          <p:cNvSpPr/>
          <p:nvPr/>
        </p:nvSpPr>
        <p:spPr>
          <a:xfrm>
            <a:off x="7164360" y="620640"/>
            <a:ext cx="1979640" cy="2087640"/>
          </a:xfrm>
          <a:prstGeom prst="rect">
            <a:avLst/>
          </a:prstGeom>
          <a:gradFill rotWithShape="0">
            <a:gsLst>
              <a:gs pos="0">
                <a:srgbClr val="fae6c8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4"/>
          <p:cNvSpPr/>
          <p:nvPr/>
        </p:nvSpPr>
        <p:spPr>
          <a:xfrm>
            <a:off x="0" y="620640"/>
            <a:ext cx="1116000" cy="2087640"/>
          </a:xfrm>
          <a:prstGeom prst="rect">
            <a:avLst/>
          </a:prstGeom>
          <a:gradFill rotWithShape="0">
            <a:gsLst>
              <a:gs pos="0">
                <a:srgbClr val="fbefc5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25"/>
          <p:cNvGrpSpPr/>
          <p:nvPr/>
        </p:nvGrpSpPr>
        <p:grpSpPr>
          <a:xfrm>
            <a:off x="0" y="0"/>
            <a:ext cx="9144000" cy="658800"/>
            <a:chOff x="0" y="0"/>
            <a:chExt cx="9144000" cy="658800"/>
          </a:xfrm>
        </p:grpSpPr>
        <p:pic>
          <p:nvPicPr>
            <p:cNvPr id="59" name="Picture 126" descr="logo"/>
            <p:cNvPicPr/>
            <p:nvPr/>
          </p:nvPicPr>
          <p:blipFill>
            <a:blip r:embed="rId2"/>
            <a:stretch/>
          </p:blipFill>
          <p:spPr>
            <a:xfrm>
              <a:off x="1979640" y="0"/>
              <a:ext cx="716436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27" descr="logo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036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42"/>
          <p:cNvSpPr/>
          <p:nvPr/>
        </p:nvSpPr>
        <p:spPr>
          <a:xfrm>
            <a:off x="7164360" y="2637000"/>
            <a:ext cx="1979640" cy="388764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4"/>
          <p:cNvGrpSpPr/>
          <p:nvPr/>
        </p:nvGrpSpPr>
        <p:grpSpPr>
          <a:xfrm>
            <a:off x="1835280" y="6497640"/>
            <a:ext cx="7308720" cy="360360"/>
            <a:chOff x="1835280" y="6497640"/>
            <a:chExt cx="7308720" cy="360360"/>
          </a:xfrm>
        </p:grpSpPr>
        <p:sp>
          <p:nvSpPr>
            <p:cNvPr id="63" name="Rectangle 115"/>
            <p:cNvSpPr/>
            <p:nvPr/>
          </p:nvSpPr>
          <p:spPr>
            <a:xfrm>
              <a:off x="1835280" y="6497640"/>
              <a:ext cx="7308720" cy="360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6"/>
            <p:cNvSpPr/>
            <p:nvPr/>
          </p:nvSpPr>
          <p:spPr>
            <a:xfrm>
              <a:off x="8997840" y="6497640"/>
              <a:ext cx="142920" cy="360360"/>
            </a:xfrm>
            <a:prstGeom prst="pie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7"/>
          <p:cNvSpPr/>
          <p:nvPr/>
        </p:nvSpPr>
        <p:spPr>
          <a:xfrm>
            <a:off x="0" y="2708280"/>
            <a:ext cx="1116000" cy="414972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443640" y="6541920"/>
            <a:ext cx="24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esprom.neo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71280" y="1413000"/>
            <a:ext cx="952560" cy="4459320"/>
            <a:chOff x="71280" y="1413000"/>
            <a:chExt cx="952560" cy="4459320"/>
          </a:xfrm>
        </p:grpSpPr>
        <p:pic>
          <p:nvPicPr>
            <p:cNvPr id="68" name="Picture 13" descr="лесной фонд"/>
            <p:cNvPicPr/>
            <p:nvPr/>
          </p:nvPicPr>
          <p:blipFill>
            <a:blip r:embed="rId4"/>
            <a:stretch/>
          </p:blipFill>
          <p:spPr>
            <a:xfrm>
              <a:off x="71280" y="141300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69" name="Picture 14" descr="лесозаготовка"/>
            <p:cNvPicPr/>
            <p:nvPr/>
          </p:nvPicPr>
          <p:blipFill>
            <a:blip r:embed="rId5"/>
            <a:stretch/>
          </p:blipFill>
          <p:spPr>
            <a:xfrm>
              <a:off x="71280" y="234936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0" name="Picture 15" descr="деревообработка"/>
            <p:cNvPicPr/>
            <p:nvPr/>
          </p:nvPicPr>
          <p:blipFill>
            <a:blip r:embed="rId6"/>
            <a:stretch/>
          </p:blipFill>
          <p:spPr>
            <a:xfrm>
              <a:off x="71280" y="328464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1" name="Picture 16" descr="Бумага"/>
            <p:cNvPicPr/>
            <p:nvPr/>
          </p:nvPicPr>
          <p:blipFill>
            <a:blip r:embed="rId7"/>
            <a:stretch/>
          </p:blipFill>
          <p:spPr>
            <a:xfrm>
              <a:off x="71280" y="515772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2" name="Picture 17" descr="отгрузка продукц"/>
            <p:cNvPicPr/>
            <p:nvPr/>
          </p:nvPicPr>
          <p:blipFill>
            <a:blip r:embed="rId8"/>
            <a:stretch/>
          </p:blipFill>
          <p:spPr>
            <a:xfrm>
              <a:off x="71280" y="422100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73" name="Picture 18" descr="ISO 9001"/>
          <p:cNvPicPr/>
          <p:nvPr/>
        </p:nvPicPr>
        <p:blipFill>
          <a:blip r:embed="rId9"/>
          <a:stretch/>
        </p:blipFill>
        <p:spPr>
          <a:xfrm>
            <a:off x="0" y="5977080"/>
            <a:ext cx="1857240" cy="8809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18"/>
          <p:cNvGrpSpPr/>
          <p:nvPr/>
        </p:nvGrpSpPr>
        <p:grpSpPr>
          <a:xfrm>
            <a:off x="74520" y="647640"/>
            <a:ext cx="9069480" cy="503280"/>
            <a:chOff x="74520" y="647640"/>
            <a:chExt cx="9069480" cy="503280"/>
          </a:xfrm>
        </p:grpSpPr>
        <p:sp>
          <p:nvSpPr>
            <p:cNvPr id="75" name="Rectangle 119"/>
            <p:cNvSpPr/>
            <p:nvPr/>
          </p:nvSpPr>
          <p:spPr>
            <a:xfrm>
              <a:off x="74520" y="647640"/>
              <a:ext cx="9069480" cy="503280"/>
            </a:xfrm>
            <a:prstGeom prst="rect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0"/>
            <p:cNvSpPr/>
            <p:nvPr/>
          </p:nvSpPr>
          <p:spPr>
            <a:xfrm>
              <a:off x="74520" y="647640"/>
              <a:ext cx="216000" cy="5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9" descr="бревно"/>
          <p:cNvPicPr/>
          <p:nvPr/>
        </p:nvPicPr>
        <p:blipFill>
          <a:blip r:embed="rId10"/>
          <a:stretch/>
        </p:blipFill>
        <p:spPr>
          <a:xfrm>
            <a:off x="8456760" y="0"/>
            <a:ext cx="687240" cy="20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16000" y="1268280"/>
            <a:ext cx="734364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1908000" y="3657600"/>
            <a:ext cx="7236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157176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вместное решение «1С» и «Неосистемы Северо-Запад ЛТД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85560" y="2143080"/>
            <a:ext cx="75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С:Лесоза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ля автоматизации лесопромышленного предпри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перативный у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лесного уча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85920" y="1855800"/>
            <a:ext cx="7400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декла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428840" y="1500120"/>
            <a:ext cx="72864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енда лесфо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85920" y="1356840"/>
            <a:ext cx="7400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аренды лесного фонда на расходах будущих пери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2500200" y="1714680"/>
            <a:ext cx="6286680" cy="2857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1643040" y="3643200"/>
            <a:ext cx="5572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5522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85920" y="1357200"/>
            <a:ext cx="740088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Управление лесозаготовительным производст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озаготовительное 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14280" y="128592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Регистрация объемов заготовки по технологическим операц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хлыстовой и сортиментной заготовки (валка, трелевка, раскряжевка, вывозка), производственным участкам, местам хра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ведения учета сваленного и вывезенного леса в разрезе лесных участ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добные средства формирования и подбора характеристик пиловочного сырья по свойствам (порода, сорт, длина, диамет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Расчет объема заготовок от характеристик сырья по кубатурн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движения лесопродукции, в том числе перемещения между производственными участками и местами хранения, отгрузка продукции покупателям, внутризаводской обо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лан-фактный анализ лесозаготовок по да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едварительной собственной оценки и сведениям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ыработ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7072200" y="5072040"/>
            <a:ext cx="15717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тиментная за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676520" y="1357200"/>
            <a:ext cx="6619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ыстовая за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676520" y="1357200"/>
            <a:ext cx="6619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(выпус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7400880" cy="411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3643200" y="4286160"/>
            <a:ext cx="52038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(расце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429240" cy="3297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2714760" y="3357720"/>
            <a:ext cx="6083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5522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85920" y="1356840"/>
            <a:ext cx="74008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Управление закупками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24000" y="69228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системы Северо-Запад ЛТ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143000" y="1428840"/>
            <a:ext cx="611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птимизация бизнес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оцессов предприятия путем создани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втоматизированной Системы Управления Предприятием.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олный набор услуг от бизнес-консалтинга до автоматизации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Многолетний (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более 20 лет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) партнер фирмы «1С» по направлениям «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1С:Франчайзинг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», «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1С:Консалтинг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», имеет стату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Центр компетенции по производств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Центр компетенции по бюджетному уче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Microsoft Gold Certified Partner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ESET Premier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истема управления качеством компании сертифицирована на соответствие стандарту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SO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9001.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 2010 г. успешно пройден ресертификационный аудит на соответствие стандарту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SO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9001:2008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9"/>
          <p:cNvSpPr/>
          <p:nvPr/>
        </p:nvSpPr>
        <p:spPr>
          <a:xfrm>
            <a:off x="1979640" y="1159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7800"/>
                </a:solidFill>
                <a:latin typeface="Arial"/>
              </a:rPr>
              <a:t>О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3851280" y="5734080"/>
            <a:ext cx="1428840" cy="71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63044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"/>
          <p:cNvPicPr/>
          <p:nvPr/>
        </p:nvPicPr>
        <p:blipFill>
          <a:blip r:embed="rId3"/>
          <a:stretch/>
        </p:blipFill>
        <p:spPr>
          <a:xfrm>
            <a:off x="7380360" y="3213000"/>
            <a:ext cx="1614240" cy="76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Эксперт"/>
          <p:cNvPicPr/>
          <p:nvPr/>
        </p:nvPicPr>
        <p:blipFill>
          <a:blip r:embed="rId4"/>
          <a:stretch/>
        </p:blipFill>
        <p:spPr>
          <a:xfrm>
            <a:off x="7164360" y="2565360"/>
            <a:ext cx="1979640" cy="41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ИТС"/>
          <p:cNvPicPr/>
          <p:nvPr/>
        </p:nvPicPr>
        <p:blipFill>
          <a:blip r:embed="rId5"/>
          <a:stretch/>
        </p:blipFill>
        <p:spPr>
          <a:xfrm>
            <a:off x="7667640" y="5229360"/>
            <a:ext cx="925560" cy="11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консалтинг"/>
          <p:cNvPicPr/>
          <p:nvPr/>
        </p:nvPicPr>
        <p:blipFill>
          <a:blip r:embed="rId6"/>
          <a:stretch/>
        </p:blipFill>
        <p:spPr>
          <a:xfrm>
            <a:off x="7308720" y="1484280"/>
            <a:ext cx="1440000" cy="8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микрософт"/>
          <p:cNvPicPr/>
          <p:nvPr/>
        </p:nvPicPr>
        <p:blipFill>
          <a:blip r:embed="rId7"/>
          <a:stretch/>
        </p:blipFill>
        <p:spPr>
          <a:xfrm>
            <a:off x="5508720" y="5661000"/>
            <a:ext cx="1425600" cy="808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ESET Corporate Premier Partner.jpg"/>
          <p:cNvPicPr/>
          <p:nvPr/>
        </p:nvPicPr>
        <p:blipFill>
          <a:blip r:embed="rId8"/>
          <a:stretch/>
        </p:blipFill>
        <p:spPr>
          <a:xfrm>
            <a:off x="2143080" y="5715000"/>
            <a:ext cx="1428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ка лесосы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85920" y="1357200"/>
            <a:ext cx="74008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иемка пиловочного сырья от поставщиков и с собственных деля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приемки пиловочного сырья по данным контрольных замеров, по данным геометрических обмеров и по данным ручных обмеров (расчет объемов по кубатурник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рганизация многоэтапного процесса приемки сырья с помощью ордерной схемы закупок и подсистем у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назначения цен на пиловочное сырье в разрезе свойств (порода, сорт, диапазон диаметров) и процентного содержания сорта в пар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иемка сырья на ответствен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хра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5715000" y="4714920"/>
            <a:ext cx="31687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ка сы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516600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3643200" y="3214800"/>
            <a:ext cx="51436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е сы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285920" y="1843200"/>
            <a:ext cx="737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й за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4786200" cy="3360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3286080" y="3786120"/>
            <a:ext cx="5500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5522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85920" y="1357200"/>
            <a:ext cx="740088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Управление лесопильным производством и деревообработ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опи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43000" y="1499760"/>
            <a:ext cx="7400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перативный учет объемов выполнения технологических операций с возможностью указания используемых на выпуск материалов и параллельного выпуска побочных продуктов (от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акетный учет пиломатериалов с помощью набора номенклатур и характеристик с одной сер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тслеживание целостности пакетов пиломатериалов при проведении складски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пециализированные пользователь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интерфейсы для регистрации опер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работы с пакетами в систе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5715000" y="3929040"/>
            <a:ext cx="3141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опи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676520" y="1357200"/>
            <a:ext cx="6619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пак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1644480" y="1357200"/>
            <a:ext cx="66834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ак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3920" y="1500120"/>
            <a:ext cx="74725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бработка подбора «Формирование пак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1928880" y="1928880"/>
            <a:ext cx="6719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о стенового б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643040" y="1285920"/>
            <a:ext cx="6899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конфигу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ограммный продукт разработан на основе конфигурации «Управление Производственным Предприятием, ред. 1.3» фирмы «1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фигурация предназначена для комплексной автоматизации оперативного, управленческого, бухгалтерского и налогового учета предприятия лесопромышлен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фигурация является специализированным отраслевым решением для предприятий лесопромышленного комплекса в  части управления лесозаготовительным, лесопильным и деревообрабатывающим производством и поддерживающими их процесс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ограммный продукт является готовым решением для средних и крупных предприятий отра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на зат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6154920" cy="3143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3643200" y="3857760"/>
            <a:ext cx="48578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5522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13920" y="1285560"/>
            <a:ext cx="7472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Управление отгрузкой готовой продук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грузка готов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13920" y="1285560"/>
            <a:ext cx="7472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 осуществление как простых, так и сложных схем отгрузки прод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ведения наряд-заданий на отгрузку и отгрузочных спецификаций для различных видов транспорта (автомобильный, железнодорожный, вод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резервирования пакетов готовой продукции под отгрузочные спецификации как по номерам пакетов, так и с помощью подбора пакетов по свойствам с помощью удобного интерфей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осуществлять отгрузку по схеме «Расходный ордер на товары» - «Реализация товаров и услу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озможность формирования набора необходи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ечатных документов (задание на погруз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пецификация, коносамент, манифес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6643800" y="4643280"/>
            <a:ext cx="20984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аз покуп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74721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7529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ервирование пак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214280" y="1506600"/>
            <a:ext cx="74725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ация пак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13920" y="1285560"/>
            <a:ext cx="7472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бработка подбора «Комплектация пак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7580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 со скл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74725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214280" y="1565280"/>
            <a:ext cx="74725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052"/>
          <p:cNvSpPr/>
          <p:nvPr/>
        </p:nvSpPr>
        <p:spPr>
          <a:xfrm>
            <a:off x="1285920" y="3286080"/>
            <a:ext cx="7289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 офи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«Неосистемы Северо-Запад ЛТ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5035  Республика Кар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Петрозаводск, ул. Кирова, д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с (814-2) 67-2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: promo@neosystem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pr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neosystem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55"/>
          <p:cNvSpPr/>
          <p:nvPr/>
        </p:nvSpPr>
        <p:spPr>
          <a:xfrm>
            <a:off x="1116000" y="1357200"/>
            <a:ext cx="782316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Будем рады ответить на Ваши вопросы и предоставить любую дополнитель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56"/>
          <p:cNvSpPr/>
          <p:nvPr/>
        </p:nvSpPr>
        <p:spPr>
          <a:xfrm>
            <a:off x="1979640" y="1159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7800"/>
                </a:solidFill>
                <a:latin typeface="Arial"/>
              </a:rPr>
              <a:t>КОНТАКТНАЯ 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слевые 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85920" y="1356840"/>
            <a:ext cx="74008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специфики материальных потоков (древесного сырья и результатов его переработ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специфики оценки объемов и качества сырья, незавершенной, готовой продук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существление производственного учета на всех стадиях технологического процесса: от заготовки сырья до реализации готовой продукции, с возможностью последующего анализа на каждой ста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участков лесного фонда и включение аренды лесфонда в механизм сбора производственных зат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Автоматизация процесса приемки лесосырья от небольших до крупных постав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Автоматизация складского учета всех видов лесоматериалов и готовой прод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предприятия в демо-прим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285920" y="1557360"/>
            <a:ext cx="7400880" cy="4243320"/>
          </a:xfrm>
          <a:prstGeom prst="rect">
            <a:avLst/>
          </a:prstGeom>
          <a:ln w="0">
            <a:noFill/>
          </a:ln>
        </p:spPr>
      </p:pic>
      <p:sp>
        <p:nvSpPr>
          <p:cNvPr id="135" name="Стрелка вправо 4"/>
          <p:cNvSpPr/>
          <p:nvPr/>
        </p:nvSpPr>
        <p:spPr>
          <a:xfrm rot="16200000">
            <a:off x="2321640" y="4750560"/>
            <a:ext cx="500400" cy="2858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5"/>
          <p:cNvSpPr/>
          <p:nvPr/>
        </p:nvSpPr>
        <p:spPr>
          <a:xfrm rot="16200000">
            <a:off x="3250080" y="4750560"/>
            <a:ext cx="500400" cy="285480"/>
          </a:xfrm>
          <a:prstGeom prst="rightArrow">
            <a:avLst>
              <a:gd name="adj1" fmla="val 50000"/>
              <a:gd name="adj2" fmla="val 50077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6"/>
          <p:cNvSpPr/>
          <p:nvPr/>
        </p:nvSpPr>
        <p:spPr>
          <a:xfrm rot="16200000">
            <a:off x="4178880" y="4750560"/>
            <a:ext cx="500400" cy="2858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215800" y="528624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Три вида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возно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85920" y="1356840"/>
            <a:ext cx="74008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 помощью программного продукта можно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ести учет все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работы с лесосырьем, начиная от леса на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рню и заканчивая сложной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деревообрабо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пиловочник.jpg"/>
          <p:cNvPicPr/>
          <p:nvPr/>
        </p:nvPicPr>
        <p:blipFill>
          <a:blip r:embed="rId1"/>
          <a:stretch/>
        </p:blipFill>
        <p:spPr>
          <a:xfrm>
            <a:off x="1357200" y="178596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пиломатериал.jpg"/>
          <p:cNvPicPr/>
          <p:nvPr/>
        </p:nvPicPr>
        <p:blipFill>
          <a:blip r:embed="rId2"/>
          <a:stretch/>
        </p:blipFill>
        <p:spPr>
          <a:xfrm>
            <a:off x="3643200" y="3500280"/>
            <a:ext cx="243540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брус.jpg"/>
          <p:cNvPicPr/>
          <p:nvPr/>
        </p:nvPicPr>
        <p:blipFill>
          <a:blip r:embed="rId3"/>
          <a:stretch/>
        </p:blipFill>
        <p:spPr>
          <a:xfrm>
            <a:off x="6429240" y="4214880"/>
            <a:ext cx="2214720" cy="1660320"/>
          </a:xfrm>
          <a:prstGeom prst="rect">
            <a:avLst/>
          </a:prstGeom>
          <a:ln w="0">
            <a:noFill/>
          </a:ln>
        </p:spPr>
      </p:pic>
      <p:sp>
        <p:nvSpPr>
          <p:cNvPr id="144" name="Стрелка вправо 6"/>
          <p:cNvSpPr/>
          <p:nvPr/>
        </p:nvSpPr>
        <p:spPr>
          <a:xfrm>
            <a:off x="3500280" y="3143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6"/>
          <p:cNvSpPr/>
          <p:nvPr/>
        </p:nvSpPr>
        <p:spPr>
          <a:xfrm>
            <a:off x="6219720" y="37972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1541880" y="4000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ов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3912120" y="52149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о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6909120" y="59292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овой 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5522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85920" y="1357200"/>
            <a:ext cx="7400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Управление лесосечным фон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лесосечным фон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3920" y="1213920"/>
            <a:ext cx="747252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и регистрация арендованных участков лесного фонда, сохранение информации по их составу и характеристикам (в разрезе хозяйственных единиц – лесничеств и лесопарков, а также территориальных единиц - кварталов, выделов и деля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ценка качественных и количественных характеристик лесных участков, а также возможность формирования собственной материально-денежной оценки лесного учас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тслеживание состояния используемых участков лесного фонда, контроль дат начала и окончания работ на делянках с разделением по видам заготовительных работ и с возможностью получения информации  по бригад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оставление регламентированного документа «Лесная декларация», отражающего намерения вести разрабо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(рубку) определенных лесных участ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чет аренды лесного фонда на РБ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(расходах будущих пери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6500880" y="5000760"/>
            <a:ext cx="21445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лесного уча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1996920" y="1357200"/>
            <a:ext cx="59785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8:12:18Z</dcterms:created>
  <dc:creator>vaYs</dc:creator>
  <dc:description/>
  <dc:language>en-US</dc:language>
  <cp:lastModifiedBy>Yulia.Boltushkina</cp:lastModifiedBy>
  <dcterms:modified xsi:type="dcterms:W3CDTF">2011-04-13T12:49:16Z</dcterms:modified>
  <cp:revision>41</cp:revision>
  <dc:subject/>
  <dc:title>Слайд 1</dc:title>
</cp:coreProperties>
</file>